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28EB-AB3A-4929-AA84-6D2B2322CF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720E-A6E8-40C4-BA23-FD9DBCF87F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информации в базовом перечне  услуг и ведомствен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перечень шире по своему содержанию по сравнению с базовым и содержит еще дополн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9C5D-7EC5-45BC-8D87-AF78BDCB02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ОИВ субъекта РФ(ОМС), осуществляющего функции и полномочия учред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органа, осуществляющего полномочия учредителя, в соответствии с реестром участников бюджетного процесса, формирование и ведение которого осуществляется в порядке, устанавливаемом Министерством финан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8AA4-88CC-45BE-ADD9-3952F00CE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уникального номера реестровой записи имеет 23 раз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7B0A-32D2-4435-BB3F-EDF6449A2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законом Об образовании в РФ Государственные и муниципальные услуги в области образования, так же как и нормативные затраты  должны форм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ой формы реализации образовательных програм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х условий получения образования обучаю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1E06-B08E-4B3D-96CB-6CD5903D26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бразования определены Законом об образовании в РФ статьей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80E3-07D5-451A-8971-B2D7BD33F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5209-FB7D-46E8-A603-1B5A9E3FB8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2277-2160-4A5C-960F-3EF365E3B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9FC9-213D-46DB-8C34-7C7DC3D856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сновных документов, в соответствии с которыми ФОИВ осуществляют полномочия по формированию и утверждению базовых отраслевых перечней государственных и муниципальных услуг в соответствующих сфе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8878-AD6A-4257-A364-4B75F4E434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еречнем видов деятельности, по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м ФОИВ, осуществляющими функции по выработке государственной политики и нормативно-правовому регулированию в установленных сферах деятельности,  формируются базовые (отраслевые) перечни государственных и муниципальных услуг и работ за Минобрнауки России закреплены: Образование и наука и молодеж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мочия в сфере образования осуществляются в соответствии с № 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A6F4-7B0B-4076-8030-F93C5BA094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. 69.2 БК  Министерству образования и науки  РФ предоставлены полномочия по утверждени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(отраслевого) перечня государственных и муниципальных услуг и работ в сфере образования и нау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 формирования  и ведения базовых (отраслевых) перечней гос. и муниц. услуг и работ, утвержденными постановлением Правительства РФ от 26 февраля 2014 г. № 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0357-AF6D-4824-9F0D-E57B2CF291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формы базового и ведомственного перечней государственных услуг и работ для федеральных государственных учреждений  с 2016 г. отменяются , т.к. дальнейшая работа по перечням осуществляется по постановлению Правительства РФ № 151 «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ормировании и ведении базовых (отраслевых) перечней государственных и муниципальных услуг и работ, формировании, ведении и утверждении ведомственных перечней государственных услуг и работ, оказываемых и выполняемых федеральными государственными учреждениями, и об общих требованиях к формированию, ведению и утверждению ведомственных перечней государственных (муниципальных) услуги работ, оказываемых и выполняемых государственными учреждениями субъектов РФ(муниципальными учреждениями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FEEA-AD44-416F-9F50-FA7BE4EA5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 2016 г. начинают действовать единые требования для формирования перечней услуг и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059-1839-4BFF-BFA6-EC0A067C0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одходы к утверждению перечней услуг и работ в субъектах РФ различны. Решение о формировании перечней государственных (муниципальных) услуг (работ) оказываемых (выполняемых) государственными (муниципальными) учреждениями субъекта Российской Федерации (муниципального образования) принимаются самим субъектом Российской Федерации (муниципальным образованием).В некоторых есть только ведомственные перечни услуг, где-то - и базовые и ведомственные. Принципы отражения услуг также различны (по уровню детализации, по наименованию аналогичных услуг). В соответствии с Правилами и Общими требованиями, утверждаемыми постановлением унифицируется подход к определению аналогич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2F03-42A8-45A5-834E-11FEB604E8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е перечни сформированные в соответствии с настоящими Правилами будут утверждаться ФОИВ по согласованию с Минфином России. Информация, сформированная по каждой услуге образует реестровую запись. Каждой реестровой записи присваивается уникальный номер. Базов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й перечень не является закрытым. ФОИВ, ОГВ субъекта, ОМС могут направить предложения о внесении  изменений в базовый перечень с приложением документов, которые являются основанием для внесения изменений согласовав их с финансовым органом. В течении 5 рабочих ней ФОИВ рассматривает предложение и вносят изменения в перечни либо принимают решение об отказе с указанием причины от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28A9-9C87-4F49-8FF1-225D569429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государственных (муниципальных) услуг и работ формируются и утверждаются в порядке, установленном соответственно высшими исполнительными органами государственной власти субъектов Российской Федерации или местными администрациями муниципальных образований с учетом Общих треб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сформированная по каждой государственной (муниципальной) услуге и работе  образует реестров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й реестровой записи присваивается уникальный но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B49F-78FF-4811-A0D2-6D82BB8318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A4F-C018-4C98-972F-1B18E370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BB4-3A0F-4E48-9B75-F1AB81B0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0AC-5F2C-474D-B0A6-E37D337B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799-FAC7-42BC-84F3-0E51AEA5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80F-A158-42C2-B759-4AC88110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DBA-1011-4080-BC6D-1F3870A9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44F-03C4-404F-B074-3C5EC44C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113-030F-4F24-819A-C5D0176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B40-7BFC-4677-9B4B-D74C4810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4FD-FD90-49E2-AC47-9B338EA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B6F-046C-4525-B8A6-F9F3451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303-EDC7-4B02-ACCE-41308578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E94-A8A5-4EA7-B802-62220E72F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1ABFE75A877380CBB0B939C4B1AF4FAF757A3B7728CECD379DEB0699FEB83AF2C5A765996701869kEOE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91600" cy="5759280"/>
          </a:xfrm>
          <a:prstGeom prst="rect">
            <a:avLst/>
          </a:prstGeom>
          <a:noFill/>
          <a:ln w="5724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Реализация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Федерального закона Российской Федерации от 8 мая 2010 г. N 83-ФЗ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"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1484280"/>
          <a:ext cx="8496360" cy="4738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860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764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ППО, к расходным обязательствам которого относится оказ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9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, и единицы их измер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Скругленный прямоугольник 2"/>
          <p:cNvSpPr/>
          <p:nvPr/>
        </p:nvSpPr>
        <p:spPr>
          <a:xfrm>
            <a:off x="250920" y="115920"/>
            <a:ext cx="87138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700280"/>
          <a:ext cx="8642160" cy="4341600"/>
        </p:xfrm>
        <a:graphic>
          <a:graphicData uri="http://schemas.openxmlformats.org/drawingml/2006/table">
            <a:tbl>
              <a:tblPr/>
              <a:tblGrid>
                <a:gridCol w="4363920"/>
                <a:gridCol w="4278240"/>
              </a:tblGrid>
              <a:tr h="6476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3836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520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ИВ субъекта РФ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1"/>
          <p:cNvSpPr/>
          <p:nvPr/>
        </p:nvSpPr>
        <p:spPr>
          <a:xfrm>
            <a:off x="250920" y="260280"/>
            <a:ext cx="8713800" cy="10810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1555560"/>
            <a:ext cx="8362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е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устанавливает правила форм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изменения) реестровых записей при формировании и ведении базовых (отраслевых) перечней государственных и муниципальных услуг и работ (далее - реестровая запись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и и документов для включения в реестровые за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уникального номера реестровой записи, формируемой (изменяемой) при формировании и ведении базовых (отраслевых) перечней государственных и муниципальных услуг и раб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(изменяются) ФОИВ, уполномоченными на формирование базовых (отраслевых) перечней государственных и муниципальных услуг и раб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в отношении каждой государственной и муниципальной услуги и работы в разрезе перечней видов деятельности, по которым ФОИВ формируют базовые (отраслевые) переч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естровые записи не включаются информация и документы, содержащие сведения, составляющие государственную тай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х реестровых запис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му виду деятельности, которым присваивае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о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е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(отраслевой) перечен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му виду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179280" y="26028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Министерства финансов РФ от 28 мая 2014 г. N 42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148428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оказания государственных и муниципальных услуг в сфере образования в РФ осуществляется в соответствии с законодательством РФ и с учетом особенностей, установленных настоящим Ф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, определяемые органами государственной власти субъектов РФ (п.3 ч. 1 ст. 8), нормативные затраты на оказание государственной или муниципальной услуги в сфере образования определяю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технологий,…, в расчете на одного обучающегося, если иное не установлено настоящей стать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50920" y="189000"/>
            <a:ext cx="8642160" cy="1368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б образовании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5320" y="2894040"/>
            <a:ext cx="24526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5435640" y="2894040"/>
            <a:ext cx="23050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 детей и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профессиональ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258920" y="1889280"/>
            <a:ext cx="244944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5435640" y="1889280"/>
            <a:ext cx="230508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324000" y="189000"/>
            <a:ext cx="8569080" cy="14396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системы  образования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2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79280" y="115920"/>
            <a:ext cx="8856720" cy="1009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8"/>
          <p:cNvSpPr/>
          <p:nvPr/>
        </p:nvSpPr>
        <p:spPr>
          <a:xfrm>
            <a:off x="250920" y="1403280"/>
            <a:ext cx="186984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0920" y="2009880"/>
            <a:ext cx="1869840" cy="39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основны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програ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образ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разования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500720" y="1413000"/>
            <a:ext cx="215892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и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29160" y="1989000"/>
            <a:ext cx="2160720" cy="464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руппах направленнос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ирую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с приоритетным осуществлением развития воспитанни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ы  с осуществлением квалифицированной коррекции ограниченных возможностей здоровь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пециальном (коррекционном)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м учреждени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6816600" y="1413000"/>
            <a:ext cx="207828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преб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835680" y="2035080"/>
            <a:ext cx="20941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10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3 до 5 часов в день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круглосуточного пребывания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 10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5 часов в день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суточ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2230560" y="1403280"/>
            <a:ext cx="2160360" cy="946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образовательных программ 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212920" y="2419200"/>
            <a:ext cx="21718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тельная программ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аптированная образовательная програм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зовательная программа обеспечивающая углубленное изучение отдельных учебных предметов, предметных областей(профильное обучение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овательная программа, интегрированная с дополнительными предпрофессиональными образовательными программами в области физической культуры и спор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"/>
          <p:cNvSpPr/>
          <p:nvPr/>
        </p:nvSpPr>
        <p:spPr>
          <a:xfrm>
            <a:off x="276120" y="115920"/>
            <a:ext cx="8759880" cy="10317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2680" y="3369960"/>
            <a:ext cx="135576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ъект 2"/>
          <p:cNvSpPr/>
          <p:nvPr/>
        </p:nvSpPr>
        <p:spPr>
          <a:xfrm>
            <a:off x="108000" y="5199120"/>
            <a:ext cx="43815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>
            <a:off x="790560" y="4941720"/>
            <a:ext cx="1508040" cy="257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3"/>
          <p:cNvSpPr/>
          <p:nvPr/>
        </p:nvSpPr>
        <p:spPr>
          <a:xfrm>
            <a:off x="2300400" y="3186000"/>
            <a:ext cx="143352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403280" y="1233360"/>
            <a:ext cx="6269040" cy="6426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лизация основных общеобразовательных программ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Box 21"/>
          <p:cNvGrpSpPr/>
          <p:nvPr/>
        </p:nvGrpSpPr>
        <p:grpSpPr>
          <a:xfrm>
            <a:off x="23760" y="2359080"/>
            <a:ext cx="4529160" cy="969840"/>
            <a:chOff x="23760" y="2359080"/>
            <a:chExt cx="4529160" cy="969840"/>
          </a:xfrm>
        </p:grpSpPr>
        <p:pic>
          <p:nvPicPr>
            <p:cNvPr id="95" name="TextBox 21" descr=""/>
            <p:cNvPicPr/>
            <p:nvPr/>
          </p:nvPicPr>
          <p:blipFill>
            <a:blip r:embed="rId1"/>
            <a:stretch/>
          </p:blipFill>
          <p:spPr>
            <a:xfrm>
              <a:off x="2376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едеральный 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ая соединительная линия 30"/>
          <p:cNvSpPr/>
          <p:nvPr/>
        </p:nvSpPr>
        <p:spPr>
          <a:xfrm flipH="1">
            <a:off x="2349360" y="1857240"/>
            <a:ext cx="223848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1620720" y="3398760"/>
            <a:ext cx="1222560" cy="153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2976480" y="3421080"/>
            <a:ext cx="1513080" cy="146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9"/>
          <p:cNvSpPr/>
          <p:nvPr/>
        </p:nvSpPr>
        <p:spPr>
          <a:xfrm>
            <a:off x="2338560" y="3186000"/>
            <a:ext cx="1080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2"/>
          <p:cNvSpPr/>
          <p:nvPr/>
        </p:nvSpPr>
        <p:spPr>
          <a:xfrm flipH="1">
            <a:off x="790560" y="3186000"/>
            <a:ext cx="15098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0"/>
          <p:cNvSpPr/>
          <p:nvPr/>
        </p:nvSpPr>
        <p:spPr>
          <a:xfrm>
            <a:off x="2328840" y="4871880"/>
            <a:ext cx="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3"/>
          <p:cNvSpPr/>
          <p:nvPr/>
        </p:nvSpPr>
        <p:spPr>
          <a:xfrm flipH="1">
            <a:off x="2349360" y="4889520"/>
            <a:ext cx="1624320" cy="309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4649760" y="3370320"/>
            <a:ext cx="13557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4643280" y="5199120"/>
            <a:ext cx="43833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6"/>
          <p:cNvSpPr/>
          <p:nvPr/>
        </p:nvSpPr>
        <p:spPr>
          <a:xfrm>
            <a:off x="5327640" y="4797360"/>
            <a:ext cx="150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7"/>
          <p:cNvSpPr/>
          <p:nvPr/>
        </p:nvSpPr>
        <p:spPr>
          <a:xfrm>
            <a:off x="6835680" y="3186000"/>
            <a:ext cx="144000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Box 88"/>
          <p:cNvGrpSpPr/>
          <p:nvPr/>
        </p:nvGrpSpPr>
        <p:grpSpPr>
          <a:xfrm>
            <a:off x="4559400" y="2359080"/>
            <a:ext cx="4529160" cy="969840"/>
            <a:chOff x="4559400" y="2359080"/>
            <a:chExt cx="4529160" cy="969840"/>
          </a:xfrm>
        </p:grpSpPr>
        <p:pic>
          <p:nvPicPr>
            <p:cNvPr id="109" name="TextBox 88" descr=""/>
            <p:cNvPicPr/>
            <p:nvPr/>
          </p:nvPicPr>
          <p:blipFill>
            <a:blip r:embed="rId2"/>
            <a:stretch/>
          </p:blipFill>
          <p:spPr>
            <a:xfrm>
              <a:off x="455940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Объект 2"/>
          <p:cNvSpPr/>
          <p:nvPr/>
        </p:nvSpPr>
        <p:spPr>
          <a:xfrm>
            <a:off x="6084720" y="3370320"/>
            <a:ext cx="136692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ъект 2"/>
          <p:cNvSpPr/>
          <p:nvPr/>
        </p:nvSpPr>
        <p:spPr>
          <a:xfrm>
            <a:off x="7524720" y="3370320"/>
            <a:ext cx="15033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H="1">
            <a:off x="6767280" y="3186000"/>
            <a:ext cx="6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2"/>
          <p:cNvSpPr/>
          <p:nvPr/>
        </p:nvSpPr>
        <p:spPr>
          <a:xfrm flipH="1">
            <a:off x="5327280" y="3186000"/>
            <a:ext cx="150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3"/>
          <p:cNvSpPr/>
          <p:nvPr/>
        </p:nvSpPr>
        <p:spPr>
          <a:xfrm>
            <a:off x="6767640" y="4797360"/>
            <a:ext cx="6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4"/>
          <p:cNvSpPr/>
          <p:nvPr/>
        </p:nvSpPr>
        <p:spPr>
          <a:xfrm flipH="1">
            <a:off x="6835680" y="4797360"/>
            <a:ext cx="144000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5"/>
          <p:cNvSpPr/>
          <p:nvPr/>
        </p:nvSpPr>
        <p:spPr>
          <a:xfrm>
            <a:off x="4538520" y="1879560"/>
            <a:ext cx="2297160" cy="600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250920" y="115920"/>
            <a:ext cx="8713800" cy="10461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2" descr=""/>
          <p:cNvPicPr/>
          <p:nvPr/>
        </p:nvPicPr>
        <p:blipFill>
          <a:blip r:embed="rId1"/>
          <a:stretch/>
        </p:blipFill>
        <p:spPr>
          <a:xfrm>
            <a:off x="384120" y="822240"/>
            <a:ext cx="837576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3" descr=""/>
          <p:cNvPicPr/>
          <p:nvPr/>
        </p:nvPicPr>
        <p:blipFill>
          <a:blip r:embed="rId2"/>
          <a:stretch/>
        </p:blipFill>
        <p:spPr>
          <a:xfrm>
            <a:off x="384120" y="1889280"/>
            <a:ext cx="8381880" cy="9032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4"/>
          <p:cNvGrpSpPr/>
          <p:nvPr/>
        </p:nvGrpSpPr>
        <p:grpSpPr>
          <a:xfrm>
            <a:off x="926640" y="1700280"/>
            <a:ext cx="204840" cy="252360"/>
            <a:chOff x="926640" y="1700280"/>
            <a:chExt cx="204840" cy="252360"/>
          </a:xfrm>
        </p:grpSpPr>
        <p:sp>
          <p:nvSpPr>
            <p:cNvPr id="122" name="Стрелка вправо 5"/>
            <p:cNvSpPr/>
            <p:nvPr/>
          </p:nvSpPr>
          <p:spPr>
            <a:xfrm rot="5400000">
              <a:off x="902880" y="1724040"/>
              <a:ext cx="252360" cy="204840"/>
            </a:xfrm>
            <a:prstGeom prst="rightArrow">
              <a:avLst>
                <a:gd name="adj1" fmla="val 60000"/>
                <a:gd name="adj2" fmla="val 53962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Стрелка вправо 4"/>
            <p:cNvSpPr/>
            <p:nvPr/>
          </p:nvSpPr>
          <p:spPr>
            <a:xfrm rot="5400000">
              <a:off x="936360" y="1731960"/>
              <a:ext cx="1857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Схема 7" descr=""/>
          <p:cNvPicPr/>
          <p:nvPr/>
        </p:nvPicPr>
        <p:blipFill>
          <a:blip r:embed="rId3"/>
          <a:stretch/>
        </p:blipFill>
        <p:spPr>
          <a:xfrm>
            <a:off x="390600" y="3029040"/>
            <a:ext cx="8362800" cy="969840"/>
          </a:xfrm>
          <a:prstGeom prst="rect">
            <a:avLst/>
          </a:prstGeom>
          <a:ln w="0">
            <a:noFill/>
          </a:ln>
        </p:spPr>
      </p:pic>
      <p:pic>
        <p:nvPicPr>
          <p:cNvPr id="125" name="Схема 11" descr=""/>
          <p:cNvPicPr/>
          <p:nvPr/>
        </p:nvPicPr>
        <p:blipFill>
          <a:blip r:embed="rId4"/>
          <a:stretch/>
        </p:blipFill>
        <p:spPr>
          <a:xfrm>
            <a:off x="390600" y="429732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Схема 15" descr=""/>
          <p:cNvPicPr/>
          <p:nvPr/>
        </p:nvPicPr>
        <p:blipFill>
          <a:blip r:embed="rId5"/>
          <a:stretch/>
        </p:blipFill>
        <p:spPr>
          <a:xfrm>
            <a:off x="384120" y="5791320"/>
            <a:ext cx="8375760" cy="74268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20"/>
          <p:cNvGrpSpPr/>
          <p:nvPr/>
        </p:nvGrpSpPr>
        <p:grpSpPr>
          <a:xfrm>
            <a:off x="914400" y="2768760"/>
            <a:ext cx="201600" cy="299880"/>
            <a:chOff x="914400" y="2768760"/>
            <a:chExt cx="201600" cy="299880"/>
          </a:xfrm>
        </p:grpSpPr>
        <p:sp>
          <p:nvSpPr>
            <p:cNvPr id="128" name="Стрелка вправо 21"/>
            <p:cNvSpPr/>
            <p:nvPr/>
          </p:nvSpPr>
          <p:spPr>
            <a:xfrm rot="5400000">
              <a:off x="865080" y="2817720"/>
              <a:ext cx="299880" cy="201600"/>
            </a:xfrm>
            <a:prstGeom prst="rightArrow">
              <a:avLst>
                <a:gd name="adj1" fmla="val 60000"/>
                <a:gd name="adj2" fmla="val 65154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трелка вправо 4"/>
            <p:cNvSpPr/>
            <p:nvPr/>
          </p:nvSpPr>
          <p:spPr>
            <a:xfrm rot="5400000">
              <a:off x="904680" y="2817720"/>
              <a:ext cx="2206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23"/>
          <p:cNvGrpSpPr/>
          <p:nvPr/>
        </p:nvGrpSpPr>
        <p:grpSpPr>
          <a:xfrm>
            <a:off x="884160" y="3933720"/>
            <a:ext cx="231840" cy="432000"/>
            <a:chOff x="884160" y="3933720"/>
            <a:chExt cx="231840" cy="432000"/>
          </a:xfrm>
        </p:grpSpPr>
        <p:sp>
          <p:nvSpPr>
            <p:cNvPr id="131" name="Стрелка вправо 24"/>
            <p:cNvSpPr/>
            <p:nvPr/>
          </p:nvSpPr>
          <p:spPr>
            <a:xfrm rot="5400000">
              <a:off x="767520" y="4050000"/>
              <a:ext cx="432000" cy="199080"/>
            </a:xfrm>
            <a:prstGeom prst="rightArrow">
              <a:avLst>
                <a:gd name="adj1" fmla="val 60000"/>
                <a:gd name="adj2" fmla="val 9537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Стрелка вправо 4"/>
            <p:cNvSpPr/>
            <p:nvPr/>
          </p:nvSpPr>
          <p:spPr>
            <a:xfrm rot="5400000">
              <a:off x="896760" y="4105080"/>
              <a:ext cx="3193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6"/>
          <p:cNvGrpSpPr/>
          <p:nvPr/>
        </p:nvGrpSpPr>
        <p:grpSpPr>
          <a:xfrm>
            <a:off x="900000" y="5373720"/>
            <a:ext cx="231840" cy="431640"/>
            <a:chOff x="900000" y="5373720"/>
            <a:chExt cx="231840" cy="431640"/>
          </a:xfrm>
        </p:grpSpPr>
        <p:sp>
          <p:nvSpPr>
            <p:cNvPr id="134" name="Стрелка вправо 27"/>
            <p:cNvSpPr/>
            <p:nvPr/>
          </p:nvSpPr>
          <p:spPr>
            <a:xfrm rot="5400000">
              <a:off x="783720" y="5490000"/>
              <a:ext cx="431640" cy="199080"/>
            </a:xfrm>
            <a:prstGeom prst="rightArrow">
              <a:avLst>
                <a:gd name="adj1" fmla="val 60000"/>
                <a:gd name="adj2" fmla="val 9529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трелка вправо 4"/>
            <p:cNvSpPr/>
            <p:nvPr/>
          </p:nvSpPr>
          <p:spPr>
            <a:xfrm rot="5400000">
              <a:off x="912600" y="5544720"/>
              <a:ext cx="3189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Скругленный прямоугольник 30"/>
          <p:cNvSpPr/>
          <p:nvPr/>
        </p:nvSpPr>
        <p:spPr>
          <a:xfrm>
            <a:off x="395280" y="44280"/>
            <a:ext cx="8353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еские уровни планирования и реализации государственных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311040" y="512640"/>
            <a:ext cx="8382240" cy="90180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ая прямоугольная выноска 5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изменениям,  внесенным  Федеральным законом № 252-ФЗ в  Бюджетный кодекс РФ( статью 69.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устанавливается  обязанность  для  федеральных органов исполнительной власти, осуществляющих функции по выработке государственной политики и нормативно-правовому регулированию в установленных сферах деятельности,  </a:t>
            </a:r>
            <a:r>
              <a:rPr b="0" i="1" lang="ru-RU" sz="1800" spc="-1" strike="noStrike">
                <a:solidFill>
                  <a:srgbClr val="ff0000"/>
                </a:solidFill>
                <a:latin typeface="Arial Narrow"/>
              </a:rPr>
              <a:t>устанавливать  общие  требования   по   определению  нормативных  затрат на  выполнение  услуг в   сфере,  относящейся к  их  нормативно-правовому регул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9" descr=""/>
          <p:cNvPicPr/>
          <p:nvPr/>
        </p:nvPicPr>
        <p:blipFill>
          <a:blip r:embed="rId1"/>
          <a:stretch/>
        </p:blipFill>
        <p:spPr>
          <a:xfrm>
            <a:off x="438120" y="1616040"/>
            <a:ext cx="8285040" cy="51134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1"/>
          <p:cNvSpPr/>
          <p:nvPr/>
        </p:nvSpPr>
        <p:spPr>
          <a:xfrm>
            <a:off x="250920" y="333360"/>
            <a:ext cx="8710560" cy="10494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01.01.2016 вводятся новый порядок формирования базовых отраслевых и ведомственных перечней государственных (муниципальных)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2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5120" cy="16524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4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Статья 78.1 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1. В бюджетах бюджетной системы Российской Федерации предусматриваются субсидии бюджетным и автономным учреждениям на финансовое обеспечение выполнения ими государственного (муниципального) задания,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рассчитанные с учетом нормативных затрат на оказание ими государственных (муниципальных) услуг 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физическим и (или) юридическим лицам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и нормативных затрат на содержание государственного (муниципального) имущества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62800" cy="1292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5"/>
          <p:cNvSpPr/>
          <p:nvPr/>
        </p:nvSpPr>
        <p:spPr>
          <a:xfrm>
            <a:off x="108000" y="1844640"/>
            <a:ext cx="8928000" cy="4032360"/>
          </a:xfrm>
          <a:prstGeom prst="wedgeRoundRectCallout">
            <a:avLst>
              <a:gd name="adj1" fmla="val -39277"/>
              <a:gd name="adj2" fmla="val 63814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остановление Правительства РФ от 02.09.2010 N 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федеральному бюджетному или автономному учреждению субсидии в течение финансового года осуществляется на основании соглашения о порядке и условиях предоставления субсидии на финансовое обеспечение выполнения государственного задания, заключаемого федеральным бюджетным или автономным учреждением и федеральным органом, осуществляющим функции и полномочия учредителя федеральных бюджетных или автономных учреждений, в соответствии с примерной формой, утверждаемой Министерством финансов Российской Федерации и Министерством экономического развития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1.10.2014 N 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соглашение определяет права, обязанности и ответственность сторон, в том числе объем и периодичность перечисления субсидии в течение финансового года, а также возможные отклонения от установленных показателей, в пределах которых государственное задание считается выполн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9.08.2011 N 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224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моменту окончания  переходного  периода ,  предусмотренного  законом ( к 01.01.2012 года) анализ  выявил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ы отражения государственных ( муниципальных)  услуг в перечнях различны:   число  услуг  от менее 10 до  более 5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обходимость  формирования  сводного  реестра услу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язанность органов,  осуществляющих  функции  и  полномочия  учредителей,  формирова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х  перечней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 основании  сводного  реестра  услуг ( рабо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в  большинстве случаев нормативные  затраты по-прежне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«обратным  счетом»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 планируемых  ассигнований,   с учетом индексации  расходов  прошлых  л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"/>
          <p:cNvSpPr/>
          <p:nvPr/>
        </p:nvSpPr>
        <p:spPr>
          <a:xfrm>
            <a:off x="324000" y="18900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лад Правительственной комиссии по  проведению  административной  реформы от 15.03.13 о результатах реализации  положений 83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сутствие  единого  подхода  к  формированию  перечней услуг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реждений, зарегистрированных  на  сайте, около  половины. Некоторые  субъекты  практически  не  представлены ( менее  5 % учрежден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мешение услуг по  210 –ФЗ ( требуется регламент) и  83- ФЗ  «прием заявлений в  образовательные  заявления…», «оформление  прав  на земельные  участки и др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ешение  услуг  «  простых» ( вывод  мусора,  обрезка деревьев) и  услуг « сложных,  комплексных» ( предоставление   дошкольного…начального…образован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 перечней  ( муниципальных)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щие общие требования разработаны в соответствии с положениями абзаца второго пункта 4 статьи 69.2 Бюджетного кодекса Российской Федерации (Собрание законодательства Российской Федерации, 1998, № 31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. 3823; 2007, № 18, ст. 2117; 2009, № 1, ст. 18; 2010, № 19, ст. 2291; 2013, № 31, ст. 4191) в целях установления требований к определению нормативных затрат на оказание государственных (муниципальных) услуг, включенных в базовые (отраслевые) перечни государственных и муниципальных услуг и работ в сферах образования, науки и молодежной политики (далее – государственные (муниципальные) услуги, базовые перечни) для расчета объема финансового обеспечения выполнения государственного (муниципального) задания на оказание государственных (муниципальных) услуг (выполнение работ) государственными (муниципальными) учрежд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я настоящих Общих требований должны соблюдаться при определении нормативных затрат на оказание государственных (муниципальных) услуг, включенных в базовые перечни, в том числе услуг в сфере образования. Определение нормативных затрат на выполнение государственных (муниципальных) работ, включенных в базовые перечни, не требуется. Определение нормативных затрат на оказание услуг, включенных в базовые перечни, федеральными государственными учреждениями, государственными учреждениями субъектов Российской Федерации, муниципальными учреждениями осуществляется в соответствии с порядками финансового обеспечения выполнения государственного задания, установленными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в соответствии с положениями абзаца первого пункта 4 статьи 69.2 БК РФ (далее - порядки, принятые на основании части 4 статьи 69.2 БК РФ) и с соблюдением настоящих Общих требований. В случае принятия решения об определении нормативных затрат на выполнение государственных (муниципальных) работ, включенных в базовые перечни, соответствующие положения Общих требований необходимо предусмотреть в порядках, принятых на основании части 4 статьи 69.2 БК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рганами исполнительной власти субъектов Российской Федерации, осуществляющих в соответствии с законодательством Российской Федерации функции и полномочия учредителя общеобразовательных организаций при исправительных учреждениях уголовно-исполнительной системы, создаваемых по согласованию с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исполнения уголовных наказаний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определяются исходя из содержащейся в базовых перечнях информации о единицах измерения показателей, характеризующих объем образовательной услуги и показателей, отражающих содержание и (или) условия (формы) оказания государственных (муниципальных) услуг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ормативные затраты на оказание образовательных услуг, за исключением государственных (муниципальных) услуг по реализации программ дополнительного образования и профессионального обучения, определяются в расчете на одного обучающегося по каждому уровню образования в соответствии с федеральными государственными образовательными стандартами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т 29 декабря 2012 г. № 273-ФЗ «Об образовании в Российской Федерации» (далее – Федеральный закон № 273-ФЗ) особенностей организации и осуществления образовательных услуг (для различных категорий обучающихся), за исключением образовательной деятельности, осуществляемой в соответствии с образовательными стандарт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по реализации программ дополнительного образования и профессионального обучения определяются в расчете на человеко-час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№ 273-ФЗ особенностей организации и осуществления образовательных услуг (для различных категорий обучающихся). Объем государственных (муниципальных) услуг по реализации программ дополнительного образования и профессионального обучения определяется образовательной программой, разработанной и утвержденной организацией, осуществляющей образовательную деятельность , если иное не установлено федеральными закон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услуг по реализации образовательных программ среднего профессионального образования и высшего образования в очной форме профессиональными образовательными организациями и образовательными организациями высшего образования, осуществляющими оказание государственных услуг в сфере образования за счет бюджетных ассигнований федерального бюджета, учитываются затраты на организацию культурно-массовой, физкультурной и спортивной, оздоровительной работы со студентами исходя из месячного размера стипендиального фонда по образовательным программ среднего профессионального образования и двукратного месячного размера стипендиального фонда по образовательным программ высш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9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78920" cy="510228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1"/>
          <p:cNvSpPr/>
          <p:nvPr/>
        </p:nvSpPr>
        <p:spPr>
          <a:xfrm>
            <a:off x="108000" y="189000"/>
            <a:ext cx="89280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(муниципального) задания государственным и муниципальным образовательным организациям, реализующим образовательные программы дошкольного образования, нормативные затраты на оказание государственных (муниципальных) услуг по реализации основных общеобразовательных программ дошкольного образования не включают в себя нормативные затраты на оказание государственных (муниципальных) услуг по присмотру и уходу за детьми. Нормативные затраты на оказание государственных (муниципальных) услуг по присмотру и уходу за детьми в дошкольных образовательных организациях или иных организациях, в случаях, когда указанные услуги оплачиваются учредителем, определяются в полном объеме. В иных случаях нормативные затраты на указанные услуги могут быть определены с учетом возможности установления платы за указанную услугу, взимаемой с родителей (законных представителей) (далее - родительская плата). Финансовое обеспечение расходов на оказание государственных (муниципальных) услуг по присмотру и уходу за детьми-инвалидами, детьми-сиротами и детьми, оставшимися без попечения родителей, а также за детьми с туберкулезной интоксикацией, обучающимися в государственных и муниципальных образовательных организациях, реализующих образовательную программу дошкольного образования, осуществляется за счет средств органа государственной власти, осуществляющего функции и полномочия учреди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нормативных затрат на оказание услуг в сфере образования учитываются затраты на проведение практики обучающихся в случаях предусмотренных образовательной программой, разработанной в соответствии с федеральными государственными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раты на обеспечение форменной одеждой, иным вещевым имуществом (обмундированием) и питанием обучающихся федеральных государственных образовательных организаций, реализующих образовательные программы по специальностям и направлениям подготовки в области обороны и безопасности государства, обеспечения законности и правопорядка, в области таможенного дела, в области подготовки плавательных составов морских судов, судов внутреннего водного плавания, судов рыбопромыслового флота, летного состава воздушных судов, авиационного персонала, персонала, обеспечивающего организацию воздушного движения, обучающихся государственных общеобразовательных и профессиональных образовательных организаций, реализующих дополнительные общеобразовательные программы, имеющие целью подготовку несовершеннолетних граждан к военной или иной государственной службе, рассчитанные по нормам и в порядке, которые определяются их учредителями, не включаются в нормативные затраты на оказание государственной (муниципальной) услуги в сфере образ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малокомплектных образовательных организаций и образовательных организаций, расположенных в сельских населенных пунктах и реализующих основные общеобразовательные программы, а также для загранучреждений Министерства иностранных дел Российской Федерации, нормативные затраты на оказание государственных или муниципальных услуг в сфере образования предусматриваются, в том числе затраты на осуществление образовательной деятельности, не зависящие от количества обучающих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существляется с учетом норм (нормативов), выраженных в натуральных показателях, установленных федеральными законами, иными нормативными правовыми актами Российской Федерации, в том числе, актами органов государственной власти и местного самоуправления, ГОСТ, СНиП, СанПиН, при их наличии. В составе нормативных затрат предусматриваются затраты на оплату труда педагогических работников, непосредственно принимающих участие в оказании услуги и прочего персонала учреждения, в котором оказывается соответствующая услуга, исходя из необходимости выполнения требований распоряжения Правительства Российской Федерации от 30 апреля 2014 г. № 722-р «Об утверждении плана мероприятий («дорожной карты») «Изменения в отраслях социальной сферы, направленные на повышение эффективности образования и науки» (далее – «дорожная карта»). Если в учреждении одновременно оказываются государственные (муниципальные) услуги и выполняются работы, затраты на оплату труда прочего персонала целесообразно относить на нормативные затраты на оказание государственных (муниципальных) услуг структурным методом, например, исходя из общих объемов затрат, непосредственно связанных с оказанием государственных (муниципальных) услуг и выполнением работ соответственно, или экспертным методом, позволяющим распределить указанные затраты между государственными (муниципальными) услугами и работами исходя из экспертной оценки учредител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учитываются затраты на приобретение материальных запасов, в том числе средств обучения, игр и игрушек, электронных образовательных ресурсов, включая учебные и методические материалы (рабочие тетради, учебные издания в бумажном и электронном виде, дидактические материалы, аудио- и видеоматериалы), иных расходных материалов, подписку на электронные ресурсы и периодические издания. Затраты на приобретение основных средств, в том числе учебного, спортивного, оздоровительного оборудования, инвентаря, спецодежды, целесообразно осуществлять за счет средств субсидии на иные цели в соответствии с абзацем 2 части 1 статьи 78.1. Бюджетного Кодекса Российской Федерации и не включать в состав нормативных затра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на оказание услуг детям с ограниченными возможностями здоровья и иными специальными потребностями учитываются затраты непосредственно связанные с обеспечением указанных потребностей, в том числе в части приобретения материальных запасов, оплаты труда дополнительного персонала, а также основных средств в соответствии с подходами описанными в п.9.2. настоящих требований.При расчете нормативных затрат на оказание услуг лицам с ограниченными возможностями здоровья, детям-инвалидам, инвалидам в соответствии с индивидуальной программой реабилитации инвалида и лицам со специальными потребностями применяются повышающие коэффициенты, учитывающие специфику организации предоставления образовательной услуги указанной категории потреб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 нормативных затрат на оказание государственных (муниципальных) образовательных услуг включаются затраты, связанные с дополнительным профессиональным образованием педагогических работников по профилю их педагогической деятельности не реже чем один раз в три года (оплата услуг дополнительного профессионального образования образовательной организации, на базе которой педагог пройдет обучение, в том числе при прохождении обучения на базе организации, где педагог работает по основному месту работы, командировочных расходов и п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(муниципальных) услуг включаются затраты на общехозяйственные нужды, в том числе на оплату услуг связи, включая оплату трафика информационно-коммуникационной сети Интернет, транспортных услуг, коммунальных услуг, а также иных затрат непосредственно не связанных с оказанием образовательных услуг, но без которых оказание данных услуг будет существенно затруднено или невозмож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задания организациям, осуществляющие лечение, оздоровление и (или) отдых, может быть включено в том числе финансовое обеспечение оказания государственных (муниципальных) услуг по реализации основных и дополнительных общеобразовательных программам, основным программам профессионального обучения, содержания детей и организации отдыха детей и молоде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лучае отсутствия законодательно установленных на федеральном уровне норм (нормативов), в том числе выраженных в натуральных показателях, при определении нормативных затрат высший орган исполнительной власти субъекта Российской Федерации, местная администрация может руководствоваться собственными нормативами, или применять иные методы, в том числе экспертный метод (иной мето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федеральным государственным учреждениям, осуществляется в соответствии с порядком Правительства Российской Федерации, принятым на основании пункта 4 статьи 69.2 БК РФ с соблюдением настоящих Общих требова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по реализации образовательных программ высшего образования для контингента, принятого на обучение на первый курс с 1 сентября 2015 г. федеральными органами исполнительной власти (государственными органами), федеральными государственными учреждениями, осуществляющими в соответствии с законодательством Российской Федерации функции и полномочия учредителя федеральных государственных учреждений (далее – учредители федеральных государственных учреждений), осуществляется в соответствии с приказом Минобрнауки России, определяющим методику определения нормативных затрат на оказание государственных услуг по реализации имеющих государственную аккредитацию образовательных программ высшего образования по специальностям и направлениям подгото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 острая необходимость   создания единого реестра услуг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слуг должен отражать  « комплексный» характер  услуг  образования: особенности  потребителей, особенности  условий предоставления услуги (10-15 услуг по  одному уровню образов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 услуг  не должен быть «закрытым»,   учредители должны иметь  возможность   дополнять   услуги и 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отказа от массовой практики  использования фактических  расходов как нормативных целесообразно  разделить  норматив оказания услуги и норматив содержания иму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формирования « единой методики» формирования нормативных затрат должен быть  дополнительно проработан с учетом  имеющегося регионального опыта по   определению   подушевых нормативов на выполнение образовательных программ ( общее, дошкольное, дополнительно и   профессиональное образовани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1"/>
          <p:cNvSpPr/>
          <p:nvPr/>
        </p:nvSpPr>
        <p:spPr>
          <a:xfrm>
            <a:off x="468360" y="115920"/>
            <a:ext cx="820728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 и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539640" y="2781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9120" y="141264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69.2 пункт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е перечни государственных (муниципальных) услуг и работ формируются и ведутся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ми (отраслевыми) перечнями государственных и муниципальных услуг и рабо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енными ФОИВ, осуществляющими функции по выработке государственной политики и нормативно-правовому регулированию в установленных сферах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формирования и ведения базовых (отраслевых) перечней государственных и муниципальных услуг и работ устанавливается Правительством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250920" y="189000"/>
            <a:ext cx="871380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6 года отмен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ведомственного перечня государственных услуг (работ), оказываемых (выполняемых) находящимися в ведении ФОИВ (государственных органов) федеральными государственными учреждениями в качестве основных видов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базового (отраслевого) перечня государственных услуг (работ), оказываемых (выполняемых) федеральными государственными учреждениями в установленной сфер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79280" y="333360"/>
            <a:ext cx="878544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2.09.2010 N 671(в ред. от 11.10.2014 № 10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1700280"/>
            <a:ext cx="8362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, осуществляющим функции по выработке государственной политики и нормативно-правовому регулированию в установленных сферах деятельности, утвердить до 1 июля 2014 г. базовые (отраслевые) перечни государственных и муниципальных услуг и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…, привести до 1 января 2016 г. ведомственные перечни государственных услуг и работ, оказываемых (выполняемых) находящимися в их ведении федеральными государственными учреждениями в качестве основных видов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настоящего постановления применяются при формировании государственных (муниципальных) заданий на оказание государственных (муниципальных) услуг и выполнение работ на 2016 год (на 2016 год и плановый период 2017 и 2018 годов), если нормативными правовыми актами Правительства РФ, высшего исполнительного ОГВ субъекта РФ, муниципальным правовым актом местной администрации муниципального образования в отношении соответственно федеральных государственных учреждений, государственных учреждений субъекта РФ, муниципальных учреждений не установлен более ранний срок формирования государственных (муниципальных) заданий на оказание государственных (муниципальных) услуг и выполнение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179280" y="18900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789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, ведения и утверждения ведомственных перечней государственных услуг и работ, оказываемых и выполняемых федеральными государственными учрежд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оссийской Федерации (муниципальными учрежд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324000" y="189000"/>
            <a:ext cx="842472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зовые (отраслевые) перечн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каждой государственной (муниципальной) услуг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услуга) или работы включается следующая информац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 с указанием кодов ОКВЭД, которым соответствует услуга или рабо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ППО, к расходным обязательствам которого относится оказ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, и единицы их изме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07800" y="115920"/>
            <a:ext cx="85122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домственные перечни государственных (муниципальных) услуг (далее – услуга) и работ включается в отношении каждой услуги или работы следующая информац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с указанием кодов ОКВЭД, которым соответствует услуга или рабо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ИВ субъекта РФ 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, формирование и ведение которого осуществляется в порядке, устанавливаемом Министерством финансов РФ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;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287280" y="115920"/>
            <a:ext cx="8532720" cy="1441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Ф (МУНИЦИПАЛЬНЫМИ УЧРЕЖД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6:16:05Z</dcterms:created>
  <dc:creator>Паничкина Марина</dc:creator>
  <dc:description/>
  <dc:language>en-US</dc:language>
  <cp:lastModifiedBy>Лившиц Владимир Борисович</cp:lastModifiedBy>
  <cp:lastPrinted>2014-10-22T07:35:13Z</cp:lastPrinted>
  <dcterms:modified xsi:type="dcterms:W3CDTF">2015-10-23T12:23:17Z</dcterms:modified>
  <cp:revision>343</cp:revision>
  <dc:subject/>
  <dc:title>Подходы к общим требованиям по определению нормативных затрат на оказание государственных (муниципальных) услуг по общему образованию и прочих услуг</dc:title>
</cp:coreProperties>
</file>