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4A5F-9267-4416-AF8F-8D2E027B76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F5E3-B707-410B-834D-86E89ECE14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D965-7A22-4B73-B13F-EF8628ED0A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0F1-A737-4EDE-9231-FEAA4A899D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E65E-2876-4182-AEBC-E8651197AF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A19-EBE1-41CE-A013-051A22EC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AA6-78B0-44A1-A7D3-1CDE1D56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063-C335-4122-92C9-FE24088B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508-4B9B-452F-A59A-4FEB4915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7027-D266-4E04-BD04-B774DFF1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3543-8953-4881-B99F-AC022055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DCB-373B-440B-832B-993D4E3E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77E4-8696-4ECB-ABC1-4B83BAA0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C0B6-3225-44AF-8C61-DD61C032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292F-4328-495A-8A70-CD65A9DE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87F4-EA2C-4FDD-A59E-4F050E83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66A-8AF6-4056-AA27-49D71CE0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4AF5-CDCA-4609-BAC7-57B960B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3217-CC16-4EAD-9C0A-ED308205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83D9-0C94-43D0-BEE2-A8B3683B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9F6E-8A6C-4C8B-8E8F-01286FD7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71E4-E8B4-4AA1-AC76-3C3A697D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D8BB-8254-416C-B8B2-3DF955CC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1D9D-AC61-453D-8C2A-FFDE6777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B9856-97F0-410E-831D-D21507EB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5386-D8CE-4FFD-B108-A03308D0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11B8-7480-485A-A36B-724CEB15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A71-D0C1-48CE-B531-D02FC06A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AB6E-CCFF-4AD0-B4D7-FC442EBF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EDB0-7DA9-467C-9AFF-A9F38BEF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0AE0-1EFC-4398-A4C8-1A076FC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A962-9F46-49CB-8543-189AC87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F270-1E10-4143-99CF-E10435D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2832-6339-483E-97C0-68E29F9F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013C-EB50-4261-A488-4CA89F1E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3030-B028-40F6-9652-DCE5E55A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BDED0-8EDE-4B80-ABBC-ADCDC659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4F26C-4363-40F2-8726-A7429A10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A67-CA9D-4BAC-A4D0-260C6CE9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A31E-C8CA-4E18-905D-55B2074D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3B8BF-15CA-4D30-B741-8CD782C8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4233-3E0C-4D7D-BFE3-0DCFBD7B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291C-B481-4B00-9BB7-4CF6C9EB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BA30-6417-45B4-A8E1-4657E39E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CC1E-1678-4AF8-BB30-39B84A91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1805-439C-4A6C-B8D8-ACC5430F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0659-10E7-45BC-ADA5-FCB38911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8205-A7BB-4F0F-8FFF-3304E102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F81-93E1-4574-8836-25C55613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60A-6C13-4771-8FB5-6DFC8578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BD6-71F8-49E3-B952-6B20AE49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FAA-D453-422F-8AC1-1B7725E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001-728E-4E8C-88D3-B5FD0AFE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77E4-2258-44D0-82EA-8A11F3701112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3822-B285-43CA-8B2A-FC9B03489AAD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D7A3-0533-423B-A032-2E3C805C4BE7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026C-3826-49E1-B8FA-B9BF945DC26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rebuchet MS"/>
              </a:rPr>
              <a:t>Правовые основы деятельности кредитных потребительских кооперативов</a:t>
            </a:r>
            <a:endParaRPr b="0" lang="en-US" sz="44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стр0007.jpg"/>
          <p:cNvPicPr/>
          <p:nvPr/>
        </p:nvPicPr>
        <p:blipFill>
          <a:blip r:embed="rId1"/>
          <a:srcRect l="2343" t="5207" r="2343" b="5207"/>
          <a:stretch/>
        </p:blipFill>
        <p:spPr>
          <a:xfrm>
            <a:off x="324000" y="549360"/>
            <a:ext cx="87152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рава членов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14280" y="128556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участвовать в управлении КПК и быть избранными в его орга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вать в фонд финансовой взаимопомощи КПК на основании договора личные сбереж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займы на потребительские и иные нужды на условиях, предусмотренных уставом КП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ать компенсацию за использование своих личных сбереже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олучить при прекращении членства в КПК денежную стоимость своего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аво наследования пая с накопления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Фонд финансовой взаимопомощи кредитн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356840" y="1928880"/>
            <a:ext cx="7497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является источником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формируется за счет части собственных средств  КПК, личных сбережений членов КПК  и временно привлекаем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е менее половины денежных средств из ФФВП  должны быть в займа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2214720" cy="1884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250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Порядок предоставления займов в кредитном потребительском кооперативе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85560" y="2285640"/>
            <a:ext cx="7497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ередача денежных средств своим членам осуществляется на основе Договора займ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займы выдаются как с обеспечением, так и без обеспеч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айщики получают заемные средства из ФФВП, как правило, на платной основ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решение о предоставлении займа принимает уполномоченный уставом орган КПК на основании поступивших заявок на зай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Защита финансовых интересов членов кредитного потребительского кооператива</a:t>
            </a:r>
            <a:br>
              <a:rPr sz="24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2276280"/>
            <a:ext cx="75232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должен формировать резервный фонд для обеспечения непредвиденных расходов и страховой фонд для покрытия возможных убытков от деятельности кредитного союз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размеры страхового и резервного фондов утверждаются в соответствии с законодательств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вступить в саморегулируемую организаци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Narrow"/>
                <a:ea typeface="Tahoma"/>
              </a:rPr>
              <a:t>КПК обязан передавать информацию в бюро кредитных истор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Органы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Содержимое 9" descr=""/>
          <p:cNvPicPr/>
          <p:nvPr/>
        </p:nvPicPr>
        <p:blipFill>
          <a:blip r:embed="rId1"/>
          <a:stretch/>
        </p:blipFill>
        <p:spPr>
          <a:xfrm>
            <a:off x="328680" y="1627200"/>
            <a:ext cx="84186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fcbef"/>
                </a:solidFill>
                <a:latin typeface="Tahoma"/>
                <a:ea typeface="Tahoma"/>
              </a:rPr>
              <a:t>Что дает Профсоюзу организация кредитного потребительского кооператива</a:t>
            </a:r>
            <a:br>
              <a:rPr sz="29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56840" y="1928520"/>
            <a:ext cx="74977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новая для профсоюза, востребованная членами профсоюза, ниша для оказания финансовой помощ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хороший способ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PR</a:t>
            </a: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 для профсоюза, так как услуги кредитного потребительского кооператива распространяются только на членов профсою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более рациональное использование профсоюзных средст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fcbef"/>
                </a:solidFill>
                <a:latin typeface="Trebuchet MS"/>
              </a:rPr>
              <a:t>Спасибо за внимание </a:t>
            </a:r>
            <a:endParaRPr b="0" lang="en-US" sz="48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4320" y="1125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174261"/>
                </a:solidFill>
                <a:latin typeface="Tahoma"/>
                <a:ea typeface="Tahoma"/>
              </a:rPr>
              <a:t>Что такое кредитный потребительский кооператив ?</a:t>
            </a:r>
            <a:br>
              <a:rPr sz="2800"/>
            </a:br>
            <a:endParaRPr b="0" lang="en-US" sz="2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844280"/>
            <a:ext cx="7718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Кредитный потребительский кооператив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добровольное объединение физических и (или) юридических лиц на основе членства и по территориальному, профессиональному и (или) иному принципу в целях удовлетворения финансовых потребностей членов кредитного кооператива (пайщик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1"/>
          <p:cNvSpPr/>
          <p:nvPr/>
        </p:nvSpPr>
        <p:spPr>
          <a:xfrm>
            <a:off x="4494240" y="2416320"/>
            <a:ext cx="3753000" cy="888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341960" y="2263680"/>
            <a:ext cx="3752640" cy="8892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 Box 21"/>
          <p:cNvGrpSpPr/>
          <p:nvPr/>
        </p:nvGrpSpPr>
        <p:grpSpPr>
          <a:xfrm>
            <a:off x="274680" y="1231920"/>
            <a:ext cx="8704080" cy="736560"/>
            <a:chOff x="274680" y="1231920"/>
            <a:chExt cx="8704080" cy="736560"/>
          </a:xfrm>
        </p:grpSpPr>
        <p:pic>
          <p:nvPicPr>
            <p:cNvPr id="225" name="Text Box 21" descr=""/>
            <p:cNvPicPr/>
            <p:nvPr/>
          </p:nvPicPr>
          <p:blipFill>
            <a:blip r:embed="rId1"/>
            <a:stretch/>
          </p:blipFill>
          <p:spPr>
            <a:xfrm>
              <a:off x="274680" y="1231920"/>
              <a:ext cx="87040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95280" y="1341360"/>
              <a:ext cx="84614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Гражданский Кодекс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Text Box 20"/>
          <p:cNvGrpSpPr/>
          <p:nvPr/>
        </p:nvGrpSpPr>
        <p:grpSpPr>
          <a:xfrm>
            <a:off x="-6480" y="1974960"/>
            <a:ext cx="3700440" cy="1280880"/>
            <a:chOff x="-6480" y="1974960"/>
            <a:chExt cx="3700440" cy="1280880"/>
          </a:xfrm>
        </p:grpSpPr>
        <p:pic>
          <p:nvPicPr>
            <p:cNvPr id="228" name="Text Box 20" descr=""/>
            <p:cNvPicPr/>
            <p:nvPr/>
          </p:nvPicPr>
          <p:blipFill>
            <a:blip r:embed="rId2"/>
            <a:stretch/>
          </p:blipFill>
          <p:spPr>
            <a:xfrm>
              <a:off x="-6480" y="1974960"/>
              <a:ext cx="370044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28520" y="2111400"/>
              <a:ext cx="3378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й закон №190-ФЗ от 18 июля 2009 г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«О кредитной коопераци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2500200" y="3071880"/>
            <a:ext cx="0" cy="4633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2916360" y="4032360"/>
            <a:ext cx="0" cy="7318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6300720" y="3303720"/>
            <a:ext cx="0" cy="249696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Text Box 21"/>
          <p:cNvGrpSpPr/>
          <p:nvPr/>
        </p:nvGrpSpPr>
        <p:grpSpPr>
          <a:xfrm>
            <a:off x="3870360" y="1962000"/>
            <a:ext cx="4219560" cy="1182960"/>
            <a:chOff x="3870360" y="1962000"/>
            <a:chExt cx="4219560" cy="1182960"/>
          </a:xfrm>
        </p:grpSpPr>
        <p:pic>
          <p:nvPicPr>
            <p:cNvPr id="234" name="Text Box 21" descr=""/>
            <p:cNvPicPr/>
            <p:nvPr/>
          </p:nvPicPr>
          <p:blipFill>
            <a:blip r:embed="rId3"/>
            <a:stretch/>
          </p:blipFill>
          <p:spPr>
            <a:xfrm>
              <a:off x="3870360" y="1962000"/>
              <a:ext cx="42195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019400" y="2111400"/>
              <a:ext cx="39229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едеральные законы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ФЗ о ПОД/ФТ,  ФЗ «О рекламе», НК РФ, ФЗ «О потребительском займе (кредите)</a:t>
              </a:r>
              <a:r>
                <a:rPr b="0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ругие федеральные зак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Text Box 21"/>
          <p:cNvGrpSpPr/>
          <p:nvPr/>
        </p:nvGrpSpPr>
        <p:grpSpPr>
          <a:xfrm>
            <a:off x="2535120" y="5694480"/>
            <a:ext cx="5529240" cy="839520"/>
            <a:chOff x="2535120" y="5694480"/>
            <a:chExt cx="5529240" cy="839520"/>
          </a:xfrm>
        </p:grpSpPr>
        <p:pic>
          <p:nvPicPr>
            <p:cNvPr id="237" name="Text Box 21" descr=""/>
            <p:cNvPicPr/>
            <p:nvPr/>
          </p:nvPicPr>
          <p:blipFill>
            <a:blip r:embed="rId4"/>
            <a:stretch/>
          </p:blipFill>
          <p:spPr>
            <a:xfrm>
              <a:off x="2535120" y="5694480"/>
              <a:ext cx="55292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660760" y="5800680"/>
              <a:ext cx="5281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Деятельность КП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9"/>
          <p:cNvSpPr/>
          <p:nvPr/>
        </p:nvSpPr>
        <p:spPr>
          <a:xfrm>
            <a:off x="3240000" y="5405400"/>
            <a:ext cx="0" cy="3952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98176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200" y="256680"/>
            <a:ext cx="6896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174261"/>
                </a:solidFill>
                <a:latin typeface="Trebuchet MS"/>
              </a:rPr>
              <a:t>Правовое регулирование деятельности КПК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6443640" y="3860640"/>
            <a:ext cx="2500200" cy="7225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дзаконные акты Минфин РФ, ЦБ РФ,  Ф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7380360" y="4583160"/>
            <a:ext cx="0" cy="1217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7380360" y="3305160"/>
            <a:ext cx="0" cy="55548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4235400" y="4032360"/>
            <a:ext cx="1909800" cy="104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авила и стандарты СР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191200" y="3303720"/>
            <a:ext cx="0" cy="72864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5191200" y="5073480"/>
            <a:ext cx="0" cy="72720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7"/>
          <p:cNvCxnSpPr>
            <a:stCxn id="245" idx="1"/>
          </p:cNvCxnSpPr>
          <p:nvPr/>
        </p:nvCxnSpPr>
        <p:spPr>
          <a:xfrm flipH="1">
            <a:off x="3239280" y="4552560"/>
            <a:ext cx="996120" cy="548280"/>
          </a:xfrm>
          <a:prstGeom prst="straightConnector1">
            <a:avLst/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249" name="Text Box 11"/>
          <p:cNvSpPr/>
          <p:nvPr/>
        </p:nvSpPr>
        <p:spPr>
          <a:xfrm>
            <a:off x="1077840" y="4795920"/>
            <a:ext cx="2844720" cy="6094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нутренние нормативные документы К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763560" y="3530520"/>
            <a:ext cx="2844720" cy="5018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Устав КПК (ст.8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17640" y="1847880"/>
            <a:ext cx="0" cy="263520"/>
          </a:xfrm>
          <a:prstGeom prst="line">
            <a:avLst/>
          </a:prstGeom>
          <a:ln cap="rnd"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23440" y="-360"/>
            <a:ext cx="8620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от 23.07.13 № 251-ФЗ  «О передаче ЦБ РФ полномочий по регулированию, контролю и надзору в сфере финансовых рынков»</a:t>
            </a:r>
            <a:br>
              <a:rPr sz="1600"/>
            </a:br>
            <a:endParaRPr b="0" lang="en-US" sz="1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Полилиния 3"/>
          <p:cNvSpPr/>
          <p:nvPr/>
        </p:nvSpPr>
        <p:spPr>
          <a:xfrm>
            <a:off x="2952720" y="1214280"/>
            <a:ext cx="6118200" cy="144000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17880" tIns="194040" bIns="19404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проект основных направлений развития финансового рынка и обеспечивает выполнение основных направлений развития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разрабатывает и проводит политику развития и обеспечения стабильности функционирования российского финансового ры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38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Полномочие по принятию нормативных правовых актов по вопросам своего ведения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8"/>
          <p:cNvSpPr/>
          <p:nvPr/>
        </p:nvSpPr>
        <p:spPr>
          <a:xfrm>
            <a:off x="477720" y="1217520"/>
            <a:ext cx="2354400" cy="143676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определения единой политики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9"/>
          <p:cNvSpPr/>
          <p:nvPr/>
        </p:nvSpPr>
        <p:spPr>
          <a:xfrm>
            <a:off x="2952720" y="2749680"/>
            <a:ext cx="6118200" cy="11476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отраслевые стандарты бухгалтерского учета для некредитных финансовых организаций с 1.01.2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тверждает план счетов бухгалтерского учета для некредитных финансовых организаций и порядок его применения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10"/>
          <p:cNvSpPr/>
          <p:nvPr/>
        </p:nvSpPr>
        <p:spPr>
          <a:xfrm>
            <a:off x="474840" y="2749680"/>
            <a:ext cx="2338200" cy="11476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бухгалтерского учет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лилиния 11"/>
          <p:cNvSpPr/>
          <p:nvPr/>
        </p:nvSpPr>
        <p:spPr>
          <a:xfrm>
            <a:off x="2952720" y="3987720"/>
            <a:ext cx="6118200" cy="114948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03840" tIns="180000" bIns="180000" anchor="ctr">
            <a:noAutofit/>
          </a:bodyPr>
          <a:p>
            <a:pPr lvl="1" marL="171360" indent="-17136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Trebuchet MS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оводит анализ и прогнозирование состояния российской экономики, публикует соответствующие материалы и статистически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лилиния 12"/>
          <p:cNvSpPr/>
          <p:nvPr/>
        </p:nvSpPr>
        <p:spPr>
          <a:xfrm>
            <a:off x="474840" y="3987720"/>
            <a:ext cx="2338200" cy="1149480"/>
          </a:xfrm>
          <a:prstGeom prst="pie">
            <a:avLst/>
          </a:prstGeom>
          <a:gradFill rotWithShape="0">
            <a:gsLst>
              <a:gs pos="0">
                <a:srgbClr val="498bc6"/>
              </a:gs>
              <a:gs pos="100000">
                <a:srgbClr val="2a78b2"/>
              </a:gs>
            </a:gsLst>
            <a:lin ang="5400000"/>
          </a:gradFill>
          <a:ln cap="rnd" w="12600">
            <a:solidFill>
              <a:srgbClr val="2e83c3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8600" rIns="138600" tIns="104400" bIns="1044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лномочия в области мониторинга отдельных показателей развития российского финанс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лилиния 13"/>
          <p:cNvSpPr/>
          <p:nvPr/>
        </p:nvSpPr>
        <p:spPr>
          <a:xfrm>
            <a:off x="2952720" y="5211720"/>
            <a:ext cx="6118200" cy="1435320"/>
          </a:xfrm>
          <a:prstGeom prst="pie">
            <a:avLst/>
          </a:prstGeom>
          <a:solidFill>
            <a:srgbClr val="dff5fc">
              <a:alpha val="90000"/>
            </a:srgbClr>
          </a:solidFill>
          <a:ln cap="rnd" w="19080">
            <a:solidFill>
              <a:srgbClr val="a6a6a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7680" rIns="327600" tIns="203760" bIns="203760" anchor="ctr">
            <a:noAutofit/>
          </a:bodyPr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существляет регулирование, контроль и надзор за деятельностью некредитных финансовых орган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станавливает нормативы их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0000"/>
              </a:buClr>
              <a:buFont typeface="Trebuchet MS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оводит проверки их деятельности, направляет им обязательные для исполнения предписания, а также применяет к указанным организациям иные предусмотренные законодательством м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Полилиния 14"/>
          <p:cNvGrpSpPr/>
          <p:nvPr/>
        </p:nvGrpSpPr>
        <p:grpSpPr>
          <a:xfrm>
            <a:off x="407880" y="5181480"/>
            <a:ext cx="2463840" cy="1567080"/>
            <a:chOff x="407880" y="5181480"/>
            <a:chExt cx="2463840" cy="1567080"/>
          </a:xfrm>
        </p:grpSpPr>
        <p:pic>
          <p:nvPicPr>
            <p:cNvPr id="261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407880" y="5181480"/>
              <a:ext cx="2463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5211720"/>
              <a:ext cx="23288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600" rIns="138600" tIns="104400" bIns="1044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Полномочия в области регулирования деятельности отдельных участников финансового р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Прямая соединительная линия 16"/>
          <p:cNvSpPr/>
          <p:nvPr/>
        </p:nvSpPr>
        <p:spPr>
          <a:xfrm>
            <a:off x="2906640" y="1116000"/>
            <a:ext cx="62373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Скругленный прямоугольник 50"/>
          <p:cNvGrpSpPr/>
          <p:nvPr/>
        </p:nvGrpSpPr>
        <p:grpSpPr>
          <a:xfrm>
            <a:off x="5553000" y="871560"/>
            <a:ext cx="3110040" cy="755640"/>
            <a:chOff x="5553000" y="871560"/>
            <a:chExt cx="3110040" cy="755640"/>
          </a:xfrm>
        </p:grpSpPr>
        <p:pic>
          <p:nvPicPr>
            <p:cNvPr id="265" name="Скругленный прямоугольник 50" descr=""/>
            <p:cNvPicPr/>
            <p:nvPr/>
          </p:nvPicPr>
          <p:blipFill>
            <a:blip r:embed="rId1"/>
            <a:stretch/>
          </p:blipFill>
          <p:spPr>
            <a:xfrm>
              <a:off x="5553000" y="871560"/>
              <a:ext cx="31100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00600" y="1004760"/>
              <a:ext cx="2813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Министерство юсти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кругленный прямоугольник 51"/>
          <p:cNvGrpSpPr/>
          <p:nvPr/>
        </p:nvGrpSpPr>
        <p:grpSpPr>
          <a:xfrm>
            <a:off x="-92160" y="414360"/>
            <a:ext cx="2298960" cy="658800"/>
            <a:chOff x="-92160" y="414360"/>
            <a:chExt cx="2298960" cy="658800"/>
          </a:xfrm>
        </p:grpSpPr>
        <p:pic>
          <p:nvPicPr>
            <p:cNvPr id="268" name="Скругленный прямоугольник 51" descr=""/>
            <p:cNvPicPr/>
            <p:nvPr/>
          </p:nvPicPr>
          <p:blipFill>
            <a:blip r:embed="rId2"/>
            <a:stretch/>
          </p:blipFill>
          <p:spPr>
            <a:xfrm>
              <a:off x="-92160" y="414360"/>
              <a:ext cx="22989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9320" y="547560"/>
              <a:ext cx="20145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СУ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Скругленный прямоугольник 52"/>
          <p:cNvGrpSpPr/>
          <p:nvPr/>
        </p:nvGrpSpPr>
        <p:grpSpPr>
          <a:xfrm>
            <a:off x="7034040" y="5310360"/>
            <a:ext cx="1805040" cy="1071360"/>
            <a:chOff x="7034040" y="5310360"/>
            <a:chExt cx="1805040" cy="1071360"/>
          </a:xfrm>
        </p:grpSpPr>
        <p:pic>
          <p:nvPicPr>
            <p:cNvPr id="271" name="Скругленный прямоугольник 52" descr=""/>
            <p:cNvPicPr/>
            <p:nvPr/>
          </p:nvPicPr>
          <p:blipFill>
            <a:blip r:embed="rId3"/>
            <a:stretch/>
          </p:blipFill>
          <p:spPr>
            <a:xfrm>
              <a:off x="7034040" y="5310360"/>
              <a:ext cx="180504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107120" y="5381640"/>
              <a:ext cx="1332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l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Скругленный прямоугольник 57"/>
          <p:cNvGrpSpPr/>
          <p:nvPr/>
        </p:nvGrpSpPr>
        <p:grpSpPr>
          <a:xfrm>
            <a:off x="5522760" y="4552920"/>
            <a:ext cx="1805040" cy="1073160"/>
            <a:chOff x="5522760" y="4552920"/>
            <a:chExt cx="1805040" cy="1073160"/>
          </a:xfrm>
        </p:grpSpPr>
        <p:pic>
          <p:nvPicPr>
            <p:cNvPr id="274" name="Скругленный прямоугольник 57" descr=""/>
            <p:cNvPicPr/>
            <p:nvPr/>
          </p:nvPicPr>
          <p:blipFill>
            <a:blip r:embed="rId4"/>
            <a:stretch/>
          </p:blipFill>
          <p:spPr>
            <a:xfrm>
              <a:off x="5522760" y="4552920"/>
              <a:ext cx="180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595840" y="4627440"/>
              <a:ext cx="13320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&gt; 5000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чле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6" name="Прямая со стрелкой 74"/>
          <p:cNvCxnSpPr/>
          <p:nvPr/>
        </p:nvCxnSpPr>
        <p:spPr>
          <a:xfrm flipV="1">
            <a:off x="6261120" y="3555360"/>
            <a:ext cx="216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7" name="Скругленный прямоугольник 81"/>
          <p:cNvSpPr/>
          <p:nvPr/>
        </p:nvSpPr>
        <p:spPr>
          <a:xfrm>
            <a:off x="5786280" y="2292480"/>
            <a:ext cx="2751120" cy="1323720"/>
          </a:xfrm>
          <a:prstGeom prst="roundRect">
            <a:avLst>
              <a:gd name="adj" fmla="val 16667"/>
            </a:avLst>
          </a:prstGeom>
          <a:noFill/>
          <a:ln cap="rnd" w="19080">
            <a:solidFill>
              <a:srgbClr val="00b0f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77"/>
          <p:cNvCxnSpPr/>
          <p:nvPr/>
        </p:nvCxnSpPr>
        <p:spPr>
          <a:xfrm flipV="1">
            <a:off x="7772400" y="3558960"/>
            <a:ext cx="216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279" name="Скругленный прямоугольник 86"/>
          <p:cNvSpPr/>
          <p:nvPr/>
        </p:nvSpPr>
        <p:spPr>
          <a:xfrm>
            <a:off x="6102360" y="378612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Обязательное членство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включение в реестр СР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Скругленный прямоугольник 88"/>
          <p:cNvGrpSpPr/>
          <p:nvPr/>
        </p:nvGrpSpPr>
        <p:grpSpPr>
          <a:xfrm>
            <a:off x="3822840" y="6388200"/>
            <a:ext cx="4956120" cy="592200"/>
            <a:chOff x="3822840" y="6388200"/>
            <a:chExt cx="4956120" cy="592200"/>
          </a:xfrm>
        </p:grpSpPr>
        <p:pic>
          <p:nvPicPr>
            <p:cNvPr id="281" name="Скругленный прямоугольник 88" descr=""/>
            <p:cNvPicPr/>
            <p:nvPr/>
          </p:nvPicPr>
          <p:blipFill>
            <a:blip r:embed="rId5"/>
            <a:stretch/>
          </p:blipFill>
          <p:spPr>
            <a:xfrm>
              <a:off x="3822840" y="6388200"/>
              <a:ext cx="4956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960720" y="6515280"/>
              <a:ext cx="4676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Федеральная налоговая служ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Прямая со стрелкой 93"/>
          <p:cNvCxnSpPr/>
          <p:nvPr/>
        </p:nvCxnSpPr>
        <p:spPr>
          <a:xfrm flipH="1">
            <a:off x="4720680" y="4500360"/>
            <a:ext cx="1080" cy="199908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4" name="Прямая со стрелкой 94"/>
          <p:cNvCxnSpPr/>
          <p:nvPr/>
        </p:nvCxnSpPr>
        <p:spPr>
          <a:xfrm flipH="1">
            <a:off x="6260760" y="5262480"/>
            <a:ext cx="2160" cy="12391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grpSp>
        <p:nvGrpSpPr>
          <p:cNvPr id="285" name="Скругленный прямоугольник 97"/>
          <p:cNvGrpSpPr/>
          <p:nvPr/>
        </p:nvGrpSpPr>
        <p:grpSpPr>
          <a:xfrm>
            <a:off x="3906720" y="3797280"/>
            <a:ext cx="1798920" cy="1073160"/>
            <a:chOff x="3906720" y="3797280"/>
            <a:chExt cx="1798920" cy="1073160"/>
          </a:xfrm>
        </p:grpSpPr>
        <p:pic>
          <p:nvPicPr>
            <p:cNvPr id="286" name="Скругленный прямоугольник 97" descr=""/>
            <p:cNvPicPr/>
            <p:nvPr/>
          </p:nvPicPr>
          <p:blipFill>
            <a:blip r:embed="rId6"/>
            <a:stretch/>
          </p:blipFill>
          <p:spPr>
            <a:xfrm>
              <a:off x="3906720" y="3797280"/>
              <a:ext cx="17989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79800" y="3873600"/>
              <a:ext cx="13305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КПК второго уров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Прямая со стрелкой 102"/>
          <p:cNvCxnSpPr/>
          <p:nvPr/>
        </p:nvCxnSpPr>
        <p:spPr>
          <a:xfrm>
            <a:off x="7772400" y="6014520"/>
            <a:ext cx="7200" cy="49932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9" name="Скругленный прямоугольник 104"/>
          <p:cNvSpPr/>
          <p:nvPr/>
        </p:nvSpPr>
        <p:spPr>
          <a:xfrm>
            <a:off x="4422600" y="6154560"/>
            <a:ext cx="382140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 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117"/>
          <p:cNvCxnSpPr/>
          <p:nvPr/>
        </p:nvCxnSpPr>
        <p:spPr>
          <a:xfrm>
            <a:off x="2012760" y="4175280"/>
            <a:ext cx="193572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Прямая со стрелкой 118"/>
          <p:cNvCxnSpPr/>
          <p:nvPr/>
        </p:nvCxnSpPr>
        <p:spPr>
          <a:xfrm>
            <a:off x="2018880" y="4928760"/>
            <a:ext cx="3545640" cy="252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Прямая со стрелкой 123"/>
          <p:cNvCxnSpPr/>
          <p:nvPr/>
        </p:nvCxnSpPr>
        <p:spPr>
          <a:xfrm>
            <a:off x="2088720" y="3424320"/>
            <a:ext cx="3644280" cy="216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3" name="Скругленный прямоугольник 129"/>
          <p:cNvSpPr/>
          <p:nvPr/>
        </p:nvSpPr>
        <p:spPr>
          <a:xfrm>
            <a:off x="2513160" y="3289320"/>
            <a:ext cx="2933640" cy="31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исполнением СРО и их членами положений ФЗ и иных норм. а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30"/>
          <p:cNvSpPr/>
          <p:nvPr/>
        </p:nvSpPr>
        <p:spPr>
          <a:xfrm>
            <a:off x="2513160" y="3957480"/>
            <a:ext cx="1226880" cy="1173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131"/>
          <p:cNvCxnSpPr/>
          <p:nvPr/>
        </p:nvCxnSpPr>
        <p:spPr>
          <a:xfrm>
            <a:off x="1906560" y="5683320"/>
            <a:ext cx="5169600" cy="2160"/>
          </a:xfrm>
          <a:prstGeom prst="straightConnector1">
            <a:avLst/>
          </a:prstGeom>
          <a:ln cap="rnd" w="19080">
            <a:solidFill>
              <a:srgbClr val="ff0000"/>
            </a:solidFill>
            <a:custDash>
              <a:ds d="499000" sp="201000"/>
            </a:custDash>
            <a:miter/>
            <a:tailEnd len="med" type="arrow" w="med"/>
          </a:ln>
        </p:spPr>
      </p:cxnSp>
      <p:sp>
        <p:nvSpPr>
          <p:cNvPr id="296" name="Скругленный прямоугольник 135"/>
          <p:cNvSpPr/>
          <p:nvPr/>
        </p:nvSpPr>
        <p:spPr>
          <a:xfrm>
            <a:off x="2513160" y="5403960"/>
            <a:ext cx="17859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, в случае отсутствия членства в СРО К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Прямая со стрелкой 140"/>
          <p:cNvCxnSpPr/>
          <p:nvPr/>
        </p:nvCxnSpPr>
        <p:spPr>
          <a:xfrm flipV="1">
            <a:off x="6555240" y="3555360"/>
            <a:ext cx="2520" cy="10422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cxnSp>
        <p:nvCxnSpPr>
          <p:cNvPr id="298" name="Прямая со стрелкой 141"/>
          <p:cNvCxnSpPr/>
          <p:nvPr/>
        </p:nvCxnSpPr>
        <p:spPr>
          <a:xfrm flipV="1">
            <a:off x="7988760" y="3558960"/>
            <a:ext cx="2520" cy="1792800"/>
          </a:xfrm>
          <a:prstGeom prst="straightConnector1">
            <a:avLst/>
          </a:prstGeom>
          <a:ln cap="rnd" w="31680">
            <a:solidFill>
              <a:srgbClr val="00b0f0"/>
            </a:solidFill>
            <a:miter/>
            <a:headEnd len="lg" type="triangle" w="lg"/>
          </a:ln>
        </p:spPr>
      </p:cxnSp>
      <p:sp>
        <p:nvSpPr>
          <p:cNvPr id="299" name="Скругленный прямоугольник 147"/>
          <p:cNvSpPr/>
          <p:nvPr/>
        </p:nvSpPr>
        <p:spPr>
          <a:xfrm>
            <a:off x="5564160" y="4094280"/>
            <a:ext cx="291960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Мониторинг, контроль, обеспечение имущественной ответственно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hape 153"/>
          <p:cNvCxnSpPr>
            <a:endCxn id="301" idx="0"/>
          </p:cNvCxnSpPr>
          <p:nvPr/>
        </p:nvCxnSpPr>
        <p:spPr>
          <a:xfrm>
            <a:off x="2082600" y="732960"/>
            <a:ext cx="1999080" cy="97092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02" name="Скругленный прямоугольник 150"/>
          <p:cNvSpPr/>
          <p:nvPr/>
        </p:nvSpPr>
        <p:spPr>
          <a:xfrm>
            <a:off x="2784600" y="1125360"/>
            <a:ext cx="2593800" cy="36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 ликвидации кредитных потребительских кооператив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Прямая со стрелкой 157"/>
          <p:cNvCxnSpPr/>
          <p:nvPr/>
        </p:nvCxnSpPr>
        <p:spPr>
          <a:xfrm>
            <a:off x="2088720" y="2976120"/>
            <a:ext cx="3644280" cy="2520"/>
          </a:xfrm>
          <a:prstGeom prst="straightConnector1">
            <a:avLst/>
          </a:prstGeom>
          <a:ln cap="rnd" w="316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Скругленный прямоугольник 158"/>
          <p:cNvSpPr/>
          <p:nvPr/>
        </p:nvSpPr>
        <p:spPr>
          <a:xfrm>
            <a:off x="2840040" y="2852640"/>
            <a:ext cx="222408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заимодейств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Скругленный прямоугольник 43"/>
          <p:cNvGrpSpPr/>
          <p:nvPr/>
        </p:nvGrpSpPr>
        <p:grpSpPr>
          <a:xfrm>
            <a:off x="1054080" y="2279520"/>
            <a:ext cx="1139760" cy="4303800"/>
            <a:chOff x="1054080" y="2279520"/>
            <a:chExt cx="1139760" cy="4303800"/>
          </a:xfrm>
        </p:grpSpPr>
        <p:pic>
          <p:nvPicPr>
            <p:cNvPr id="306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1054080" y="2279520"/>
              <a:ext cx="1139760" cy="43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16200000">
              <a:off x="-375120" y="4024800"/>
              <a:ext cx="39733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Банк Ро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Скругленный прямоугольник 2"/>
          <p:cNvGrpSpPr/>
          <p:nvPr/>
        </p:nvGrpSpPr>
        <p:grpSpPr>
          <a:xfrm>
            <a:off x="5608800" y="2127240"/>
            <a:ext cx="2998800" cy="1566720"/>
            <a:chOff x="5608800" y="2127240"/>
            <a:chExt cx="2998800" cy="156672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8"/>
            <a:stretch/>
          </p:blipFill>
          <p:spPr>
            <a:xfrm>
              <a:off x="5608800" y="2127240"/>
              <a:ext cx="29988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797440" y="2301840"/>
              <a:ext cx="2621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СРО 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</a:rPr>
                <a:t>Не менее 100 КПК или 5 КПК с численностью членов более 100 тыс. пайщ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Shape 153"/>
          <p:cNvCxnSpPr/>
          <p:nvPr/>
        </p:nvCxnSpPr>
        <p:spPr>
          <a:xfrm rot="10800000">
            <a:off x="1054800" y="940680"/>
            <a:ext cx="97560" cy="1837440"/>
          </a:xfrm>
          <a:prstGeom prst="bentConnector2">
            <a:avLst/>
          </a:prstGeom>
          <a:ln cap="rnd" w="31680">
            <a:solidFill>
              <a:srgbClr val="72a528"/>
            </a:solidFill>
            <a:miter/>
            <a:tailEnd len="med" type="triangle" w="med"/>
          </a:ln>
        </p:spPr>
      </p:cxnSp>
      <p:sp>
        <p:nvSpPr>
          <p:cNvPr id="312" name="Скругленный прямоугольник 138"/>
          <p:cNvSpPr/>
          <p:nvPr/>
        </p:nvSpPr>
        <p:spPr>
          <a:xfrm>
            <a:off x="36360" y="1125360"/>
            <a:ext cx="2394000" cy="54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 ликвидации КПК, по  основаниям, предусмотренным положениями №190-Ф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49"/>
          <p:cNvSpPr/>
          <p:nvPr/>
        </p:nvSpPr>
        <p:spPr>
          <a:xfrm>
            <a:off x="36360" y="1773360"/>
            <a:ext cx="2394000" cy="46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Заявление об исключении СРО КПК из государственного реестра СРО К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59"/>
          <p:cNvSpPr/>
          <p:nvPr/>
        </p:nvSpPr>
        <p:spPr>
          <a:xfrm>
            <a:off x="2784600" y="1703520"/>
            <a:ext cx="2593800" cy="51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72a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шение об исключении СРО КПК из государственного реестра СРО КП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1258920" y="249228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СРО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1"/>
          <p:cNvSpPr/>
          <p:nvPr/>
        </p:nvSpPr>
        <p:spPr>
          <a:xfrm>
            <a:off x="1258920" y="5951520"/>
            <a:ext cx="647640" cy="4064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Реестр КП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Соединительная линия уступом 107"/>
          <p:cNvCxnSpPr>
            <a:endCxn id="315" idx="2"/>
          </p:cNvCxnSpPr>
          <p:nvPr/>
        </p:nvCxnSpPr>
        <p:spPr>
          <a:xfrm rot="10800000">
            <a:off x="1581840" y="6357240"/>
            <a:ext cx="2363040" cy="303840"/>
          </a:xfrm>
          <a:prstGeom prst="bentConnector2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17" name="Скругленный прямоугольник 110"/>
          <p:cNvSpPr/>
          <p:nvPr/>
        </p:nvSpPr>
        <p:spPr>
          <a:xfrm>
            <a:off x="2266920" y="6496200"/>
            <a:ext cx="1446120" cy="3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Предоставление сведений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из ЕГРЮ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73"/>
          <p:cNvCxnSpPr>
            <a:endCxn id="314" idx="3"/>
          </p:cNvCxnSpPr>
          <p:nvPr/>
        </p:nvCxnSpPr>
        <p:spPr>
          <a:xfrm flipH="1">
            <a:off x="1906200" y="2695320"/>
            <a:ext cx="3826800" cy="1080"/>
          </a:xfrm>
          <a:prstGeom prst="straightConnector1">
            <a:avLst/>
          </a:prstGeom>
          <a:ln cap="rnd"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19" name="Прямая со стрелкой 62"/>
          <p:cNvCxnSpPr/>
          <p:nvPr/>
        </p:nvCxnSpPr>
        <p:spPr>
          <a:xfrm flipH="1" flipV="1">
            <a:off x="6443280" y="145368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20" name="Прямая со стрелкой 82"/>
          <p:cNvCxnSpPr/>
          <p:nvPr/>
        </p:nvCxnSpPr>
        <p:spPr>
          <a:xfrm flipH="1">
            <a:off x="7778520" y="1454040"/>
            <a:ext cx="2160" cy="783360"/>
          </a:xfrm>
          <a:prstGeom prst="straightConnector1">
            <a:avLst/>
          </a:prstGeom>
          <a:ln cap="rnd"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321" name="Скругленный прямоугольник 83"/>
          <p:cNvSpPr/>
          <p:nvPr/>
        </p:nvSpPr>
        <p:spPr>
          <a:xfrm>
            <a:off x="7161120" y="1557360"/>
            <a:ext cx="1263600" cy="42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Контроль за деятельностью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64"/>
          <p:cNvSpPr/>
          <p:nvPr/>
        </p:nvSpPr>
        <p:spPr>
          <a:xfrm>
            <a:off x="5813280" y="1671480"/>
            <a:ext cx="1262160" cy="42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Государственная регистрация Н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84"/>
          <p:cNvSpPr/>
          <p:nvPr/>
        </p:nvSpPr>
        <p:spPr>
          <a:xfrm>
            <a:off x="2840040" y="2600280"/>
            <a:ext cx="2224080" cy="1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Включение в реест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76200" y="34920"/>
            <a:ext cx="822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rebuchet MS"/>
              </a:rPr>
              <a:t>Система регулирования и контроля  кредитной ко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2760" y="2203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rebuchet MS"/>
              </a:rPr>
              <a:t>Система стандартов и норм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6" name="Скругленный прямоугольник 2"/>
          <p:cNvSpPr/>
          <p:nvPr/>
        </p:nvSpPr>
        <p:spPr>
          <a:xfrm>
            <a:off x="777960" y="1281240"/>
            <a:ext cx="2619360" cy="1047600"/>
          </a:xfrm>
          <a:prstGeom prst="roundRect">
            <a:avLst>
              <a:gd name="adj" fmla="val 14606"/>
            </a:avLst>
          </a:prstGeom>
          <a:gradFill rotWithShape="0">
            <a:gsLst>
              <a:gs pos="0">
                <a:srgbClr val="d3eef9"/>
              </a:gs>
              <a:gs pos="100000">
                <a:srgbClr val="7cd1f1"/>
              </a:gs>
            </a:gsLst>
            <a:lin ang="5400000"/>
          </a:gradFill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Федеральный закон №190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«О кредитной кооп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"/>
          <p:cNvSpPr/>
          <p:nvPr/>
        </p:nvSpPr>
        <p:spPr>
          <a:xfrm>
            <a:off x="3611520" y="2449440"/>
            <a:ext cx="2619360" cy="73512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Бан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4"/>
          <p:cNvSpPr/>
          <p:nvPr/>
        </p:nvSpPr>
        <p:spPr>
          <a:xfrm>
            <a:off x="6292800" y="3548160"/>
            <a:ext cx="2619360" cy="734760"/>
          </a:xfrm>
          <a:prstGeom prst="roundRect">
            <a:avLst>
              <a:gd name="adj" fmla="val 14606"/>
            </a:avLst>
          </a:prstGeom>
          <a:solidFill>
            <a:srgbClr val="ffff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hape 33"/>
          <p:cNvCxnSpPr>
            <a:stCxn id="326" idx="3"/>
            <a:endCxn id="327" idx="0"/>
          </p:cNvCxnSpPr>
          <p:nvPr/>
        </p:nvCxnSpPr>
        <p:spPr>
          <a:xfrm>
            <a:off x="3396960" y="1805040"/>
            <a:ext cx="1524600" cy="64512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0" name="Shape 35"/>
          <p:cNvCxnSpPr>
            <a:stCxn id="327" idx="3"/>
          </p:cNvCxnSpPr>
          <p:nvPr/>
        </p:nvCxnSpPr>
        <p:spPr>
          <a:xfrm>
            <a:off x="6230520" y="2817360"/>
            <a:ext cx="694440" cy="73116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1" name="Shape 41"/>
          <p:cNvCxnSpPr>
            <a:stCxn id="326" idx="3"/>
          </p:cNvCxnSpPr>
          <p:nvPr/>
        </p:nvCxnSpPr>
        <p:spPr>
          <a:xfrm>
            <a:off x="3396960" y="1805040"/>
            <a:ext cx="4974120" cy="1743840"/>
          </a:xfrm>
          <a:prstGeom prst="bentConnector2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2" name="Скругленный прямоугольник 8"/>
          <p:cNvGrpSpPr/>
          <p:nvPr/>
        </p:nvGrpSpPr>
        <p:grpSpPr>
          <a:xfrm>
            <a:off x="712800" y="5742000"/>
            <a:ext cx="8265960" cy="714240"/>
            <a:chOff x="712800" y="5742000"/>
            <a:chExt cx="8265960" cy="714240"/>
          </a:xfrm>
        </p:grpSpPr>
        <p:pic>
          <p:nvPicPr>
            <p:cNvPr id="333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712800" y="5742000"/>
              <a:ext cx="82659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03160" y="5799240"/>
              <a:ext cx="80838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Кредитные потребительские кооперати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Прямая со стрелкой 9"/>
          <p:cNvCxnSpPr>
            <a:stCxn id="326" idx="2"/>
          </p:cNvCxnSpPr>
          <p:nvPr/>
        </p:nvCxnSpPr>
        <p:spPr>
          <a:xfrm flipH="1">
            <a:off x="2085120" y="2328840"/>
            <a:ext cx="2520" cy="343296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6" name="Прямая со стрелкой 10"/>
          <p:cNvCxnSpPr>
            <a:stCxn id="327" idx="2"/>
          </p:cNvCxnSpPr>
          <p:nvPr/>
        </p:nvCxnSpPr>
        <p:spPr>
          <a:xfrm>
            <a:off x="4921200" y="3184200"/>
            <a:ext cx="7200" cy="260100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37" name="Прямая со стрелкой 11"/>
          <p:cNvCxnSpPr>
            <a:stCxn id="328" idx="2"/>
          </p:cNvCxnSpPr>
          <p:nvPr/>
        </p:nvCxnSpPr>
        <p:spPr>
          <a:xfrm>
            <a:off x="7602120" y="4282920"/>
            <a:ext cx="27720" cy="1478880"/>
          </a:xfrm>
          <a:prstGeom prst="straightConnector1">
            <a:avLst/>
          </a:prstGeom>
          <a:ln cap="rnd" w="2844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338" name="Скругленный прямоугольник 12"/>
          <p:cNvGrpSpPr/>
          <p:nvPr/>
        </p:nvGrpSpPr>
        <p:grpSpPr>
          <a:xfrm>
            <a:off x="3986280" y="4608360"/>
            <a:ext cx="1884240" cy="871560"/>
            <a:chOff x="3986280" y="4608360"/>
            <a:chExt cx="1884240" cy="871560"/>
          </a:xfrm>
        </p:grpSpPr>
        <p:pic>
          <p:nvPicPr>
            <p:cNvPr id="339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3986280" y="4608360"/>
              <a:ext cx="188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083120" y="4670280"/>
              <a:ext cx="1690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Скругленный прямоугольник 13"/>
          <p:cNvSpPr/>
          <p:nvPr/>
        </p:nvSpPr>
        <p:spPr>
          <a:xfrm>
            <a:off x="6931080" y="4638600"/>
            <a:ext cx="1387440" cy="735120"/>
          </a:xfrm>
          <a:prstGeom prst="roundRect">
            <a:avLst>
              <a:gd name="adj" fmla="val 14606"/>
            </a:avLst>
          </a:prstGeom>
          <a:solidFill>
            <a:srgbClr val="ffffcc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равила и станд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4"/>
          <p:cNvSpPr/>
          <p:nvPr/>
        </p:nvSpPr>
        <p:spPr>
          <a:xfrm>
            <a:off x="405144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ополнительные финансовые 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5"/>
          <p:cNvSpPr/>
          <p:nvPr/>
        </p:nvSpPr>
        <p:spPr>
          <a:xfrm>
            <a:off x="1393920" y="2451240"/>
            <a:ext cx="1387440" cy="734760"/>
          </a:xfrm>
          <a:prstGeom prst="roundRect">
            <a:avLst>
              <a:gd name="adj" fmla="val 14606"/>
            </a:avLst>
          </a:prstGeom>
          <a:solidFill>
            <a:srgbClr val="eaf6d9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Скругленный прямоугольник 16"/>
          <p:cNvGrpSpPr/>
          <p:nvPr/>
        </p:nvGrpSpPr>
        <p:grpSpPr>
          <a:xfrm>
            <a:off x="6492960" y="2236680"/>
            <a:ext cx="1517400" cy="866880"/>
            <a:chOff x="6492960" y="2236680"/>
            <a:chExt cx="1517400" cy="866880"/>
          </a:xfrm>
        </p:grpSpPr>
        <p:pic>
          <p:nvPicPr>
            <p:cNvPr id="345" name="Скругленный прямоугольник 16" descr=""/>
            <p:cNvPicPr/>
            <p:nvPr/>
          </p:nvPicPr>
          <p:blipFill>
            <a:blip r:embed="rId3"/>
            <a:stretch/>
          </p:blipFill>
          <p:spPr>
            <a:xfrm>
              <a:off x="6492960" y="2236680"/>
              <a:ext cx="1517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589800" y="2297160"/>
              <a:ext cx="1323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</a:rPr>
                <a:t>Регламен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Скругленный прямоугольник 17"/>
          <p:cNvSpPr/>
          <p:nvPr/>
        </p:nvSpPr>
        <p:spPr>
          <a:xfrm>
            <a:off x="1211400" y="3598920"/>
            <a:ext cx="1753920" cy="735120"/>
          </a:xfrm>
          <a:prstGeom prst="roundRect">
            <a:avLst>
              <a:gd name="adj" fmla="val 14606"/>
            </a:avLst>
          </a:prstGeom>
          <a:solidFill>
            <a:srgbClr val="ffccff"/>
          </a:solidFill>
          <a:ln cap="rnd"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200" y="404640"/>
            <a:ext cx="74977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 создаются кредитные кооперативы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49" name="Содержимое 6" descr=""/>
          <p:cNvPicPr/>
          <p:nvPr/>
        </p:nvPicPr>
        <p:blipFill>
          <a:blip r:embed="rId1"/>
          <a:stretch/>
        </p:blipFill>
        <p:spPr>
          <a:xfrm>
            <a:off x="676440" y="1481040"/>
            <a:ext cx="6583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9264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ahoma"/>
                <a:ea typeface="Tahoma"/>
              </a:rPr>
              <a:t>Основные принципы деятельности кредитных потребительских кооперативов</a:t>
            </a:r>
            <a:br>
              <a:rPr sz="29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51" name="Содержимое 6" descr=""/>
          <p:cNvPicPr/>
          <p:nvPr/>
        </p:nvPicPr>
        <p:blipFill>
          <a:blip r:embed="rId1"/>
          <a:stretch/>
        </p:blipFill>
        <p:spPr>
          <a:xfrm>
            <a:off x="639720" y="1279440"/>
            <a:ext cx="801072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8480" y="539280"/>
            <a:ext cx="78627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74261"/>
                </a:solidFill>
                <a:latin typeface="Tahoma"/>
                <a:ea typeface="Tahoma"/>
              </a:rPr>
              <a:t>Какие финансовые операции может осуществлять кредитный кооператив</a:t>
            </a:r>
            <a:br>
              <a:rPr sz="2700"/>
            </a:b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85560" y="2214720"/>
            <a:ext cx="7497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оказывать финансовую помощь пайщикам КПК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в виде займ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принимать личные сбережения членов-пайщиков с дальнейшим начислением компенс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258840" y="371628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236520" y="1643040"/>
            <a:ext cx="14493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24:33Z</dcterms:created>
  <dc:creator>Дмитрий</dc:creator>
  <dc:description/>
  <dc:language>en-US</dc:language>
  <cp:lastModifiedBy>Сергей Хмельков</cp:lastModifiedBy>
  <dcterms:modified xsi:type="dcterms:W3CDTF">2015-09-28T19:47:34Z</dcterms:modified>
  <cp:revision>87</cp:revision>
  <dc:subject/>
  <dc:title>Кредитные союзы</dc:title>
</cp:coreProperties>
</file>