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0B23-2FDF-4DC2-87D3-AF793AC19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5B6-D973-4C64-B2D2-B29637D77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D9C-3915-4102-9AA3-2A46AA53C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82CD-6672-4CA4-9250-8727945735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9E5-28C0-444D-BA8E-3BE6E5633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1BA-E71F-4CA5-A2B7-6FCB1315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5CB-414B-4D80-90C7-C6281856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FEC-857D-4E1D-91F1-E17F6069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700-5242-43F1-9B1C-D84303B2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E1E8-BDE8-49DA-BFA6-C50E1811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FC0-E9AA-4EE7-AE32-48D4F231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4AF7-321C-4F78-B48C-7424AA7D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7BF8-D818-427D-9F6E-9E2E4BD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037-072C-4EFF-AD87-0867E9E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C1DE-20DB-474E-ABD3-0F9FFDE6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1B64-B01F-4D3F-A69B-A22ADFE8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891-BF24-4B9E-A376-BB2A8AA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441C-939A-47A8-89BD-8C42303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BD1-A46C-4C01-B7E5-59E3CE7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C9AA-E1E5-41AC-B17F-46194C0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C4D8-D5E4-4B0A-B279-30F9FDA7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D4C-B503-4A11-9D5A-B29AD519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F038-30EC-43F2-8134-783188AE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5488-62EF-4D6C-870B-1FC1CB8C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F0DC1-D171-487C-8CA1-5E318112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5982-5931-4BDB-A9C2-A1C5C95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F09B-BF98-41E8-90AA-F215E81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C62-6E7F-4E4C-A66E-C671C24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7941-5A29-47E3-9D51-991AFFC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D647-998F-403E-A5FB-DC2EC5E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B41D-25A5-458C-BD39-AE2269B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4C58-CFE6-465F-B0EC-26D42D4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BB0D-B07D-479C-B771-99033B0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2EA0-46FC-4C54-B60F-142C468A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E9C62-0B14-4F8F-B989-5B4B261A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0301-5A91-4069-AD7A-E5A10C3C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93D0-E611-4EFC-A48B-E7FF1602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A663-C29E-41A2-BD19-A429961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4CA-BE40-4D24-9075-62D2C30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891D-ABAD-4147-968C-21074721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9813-A3B8-4A07-8874-AAF0238F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69BB9-704D-4CD3-BB99-497EB2D6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7900-2F66-489D-89ED-3757FD20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F7C5-892F-4CB2-8CDB-1348D26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AF81-619E-4EF6-8801-1CDDF8BD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A57C-9D79-472B-9EA7-0F1CFC6F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BF39-48DD-400C-9211-765BEBF9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D31E-EB2C-46CF-B86E-219B4DDB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CB1-8716-4EFD-B949-7E7B1EDD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D36-9C6B-4BEE-9F7D-0EFC3516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0A7-9072-4F17-BF0B-83B915C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DCA-AFDE-46ED-BCE2-2081064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BAB-2063-467B-B751-022010F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DE83-457C-4F45-987E-54DB50F373F9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E81-2638-4D8D-9B60-B31213EC26A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4A89-180A-4067-B24B-99C1F64908F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6A37-15C2-454E-86B5-4FCFD0E4B7A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rebuchet MS"/>
              </a:rPr>
              <a:t>Правовые основы деятельности кредитных потребительских кооперативов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стр0007.jpg"/>
          <p:cNvPicPr/>
          <p:nvPr/>
        </p:nvPicPr>
        <p:blipFill>
          <a:blip r:embed="rId1"/>
          <a:srcRect l="2343" t="5207" r="2343" b="5207"/>
          <a:stretch/>
        </p:blipFill>
        <p:spPr>
          <a:xfrm>
            <a:off x="324000" y="549360"/>
            <a:ext cx="8715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рава членов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4280" y="128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участвовать в управлении КПК и быть избранными в его орга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вать в фонд финансовой взаимопомощи КПК на основании договора личные сбере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займы на потребительские и иные нужды на условиях, предусмотренных уставом К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компенсацию за использование своих личных сбереж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ить при прекращении членства в КПК денежную стоимость своего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аво наследования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Фонд финансовой взаимопомощи кредитн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356840" y="192888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является источником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ируется за счет части собственных средств  КПК, личных сбережений членов КПК  и временно привлекаем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е менее половины денежных средств из ФФВП  должны быть в займ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2214720" cy="1884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50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орядок предоставления займов в кредитном потребительском кооперативе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85560" y="2285640"/>
            <a:ext cx="7497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ча денежных средств своим членам осуществляется на основе Договора зай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займы выдаются как с обеспечением, так и без обеспе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айщики получают заемные средства из ФФВП, как правило, на платной осно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решение о предоставлении займа принимает уполномоченный уставом орган КПК на основании поступивших заявок на зай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Защита финансовых интересов членов кредитного потребительского кооператива</a:t>
            </a:r>
            <a:br>
              <a:rPr sz="24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276280"/>
            <a:ext cx="75232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должен формировать резервный фонд для обеспечения непредвиденных расходов и страховой фонд для покрытия возможных убытков от деятельности кредитного союз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размеры страхового и резервного фондов утверждаются в соответствии с законодательств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вступить в саморегулируемую организаци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передавать информацию в бюро кредитных истор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Органы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Содержимое 9" descr=""/>
          <p:cNvPicPr/>
          <p:nvPr/>
        </p:nvPicPr>
        <p:blipFill>
          <a:blip r:embed="rId1"/>
          <a:stretch/>
        </p:blipFill>
        <p:spPr>
          <a:xfrm>
            <a:off x="328680" y="1627200"/>
            <a:ext cx="8418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fcbef"/>
                </a:solidFill>
                <a:latin typeface="Tahoma"/>
                <a:ea typeface="Tahoma"/>
              </a:rPr>
              <a:t>Что дает Профсоюзу организация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56840" y="1928520"/>
            <a:ext cx="7497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овая для профсоюза, востребованная членами профсоюза, ниша для оказания финансовой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хороший способ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R</a:t>
            </a: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 для профсоюза, так как услуги кредитного потребительского кооператива распространяются только на членов профсою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более рациональное использование профсоюзн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fcbef"/>
                </a:solidFill>
                <a:latin typeface="Trebuchet MS"/>
              </a:rPr>
              <a:t>Спасибо за внимание 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4320" y="112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74261"/>
                </a:solidFill>
                <a:latin typeface="Tahoma"/>
                <a:ea typeface="Tahoma"/>
              </a:rPr>
              <a:t>Что такое кредитный потребительский кооператив ?</a:t>
            </a:r>
            <a:br>
              <a:rPr sz="2800"/>
            </a:br>
            <a:endParaRPr b="0" lang="en-US" sz="2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844280"/>
            <a:ext cx="7718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Кредитный потребительский кооператив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ровольное объединение физических и (или) юридических лиц на основе членства и по территориальному, профессиональному и (или) иному принципу в целях удовлетворения финансовых потребностей членов кредитного кооператива (пайщик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1"/>
          <p:cNvSpPr/>
          <p:nvPr/>
        </p:nvSpPr>
        <p:spPr>
          <a:xfrm>
            <a:off x="4494240" y="2416320"/>
            <a:ext cx="3753000" cy="888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341960" y="2263680"/>
            <a:ext cx="3752640" cy="889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 Box 21"/>
          <p:cNvGrpSpPr/>
          <p:nvPr/>
        </p:nvGrpSpPr>
        <p:grpSpPr>
          <a:xfrm>
            <a:off x="274680" y="1231920"/>
            <a:ext cx="8704080" cy="736560"/>
            <a:chOff x="274680" y="1231920"/>
            <a:chExt cx="8704080" cy="736560"/>
          </a:xfrm>
        </p:grpSpPr>
        <p:pic>
          <p:nvPicPr>
            <p:cNvPr id="225" name="Text Box 21" descr=""/>
            <p:cNvPicPr/>
            <p:nvPr/>
          </p:nvPicPr>
          <p:blipFill>
            <a:blip r:embed="rId1"/>
            <a:stretch/>
          </p:blipFill>
          <p:spPr>
            <a:xfrm>
              <a:off x="274680" y="1231920"/>
              <a:ext cx="87040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95280" y="1341360"/>
              <a:ext cx="8461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Гражданский Кодекс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 Box 20"/>
          <p:cNvGrpSpPr/>
          <p:nvPr/>
        </p:nvGrpSpPr>
        <p:grpSpPr>
          <a:xfrm>
            <a:off x="-6480" y="1974960"/>
            <a:ext cx="3700440" cy="1280880"/>
            <a:chOff x="-6480" y="1974960"/>
            <a:chExt cx="3700440" cy="1280880"/>
          </a:xfrm>
        </p:grpSpPr>
        <p:pic>
          <p:nvPicPr>
            <p:cNvPr id="228" name="Text Box 20" descr=""/>
            <p:cNvPicPr/>
            <p:nvPr/>
          </p:nvPicPr>
          <p:blipFill>
            <a:blip r:embed="rId2"/>
            <a:stretch/>
          </p:blipFill>
          <p:spPr>
            <a:xfrm>
              <a:off x="-6480" y="1974960"/>
              <a:ext cx="37004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8520" y="2111400"/>
              <a:ext cx="3378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й закон №190-ФЗ от 18 июля 2009 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«О кредитной кооперац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2500200" y="3071880"/>
            <a:ext cx="0" cy="4633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16360" y="4032360"/>
            <a:ext cx="0" cy="7318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6300720" y="3303720"/>
            <a:ext cx="0" cy="249696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 Box 21"/>
          <p:cNvGrpSpPr/>
          <p:nvPr/>
        </p:nvGrpSpPr>
        <p:grpSpPr>
          <a:xfrm>
            <a:off x="3870360" y="1962000"/>
            <a:ext cx="4219560" cy="1182960"/>
            <a:chOff x="3870360" y="1962000"/>
            <a:chExt cx="4219560" cy="1182960"/>
          </a:xfrm>
        </p:grpSpPr>
        <p:pic>
          <p:nvPicPr>
            <p:cNvPr id="234" name="Text Box 21" descr=""/>
            <p:cNvPicPr/>
            <p:nvPr/>
          </p:nvPicPr>
          <p:blipFill>
            <a:blip r:embed="rId3"/>
            <a:stretch/>
          </p:blipFill>
          <p:spPr>
            <a:xfrm>
              <a:off x="3870360" y="1962000"/>
              <a:ext cx="42195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19400" y="2111400"/>
              <a:ext cx="3922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е законы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З о ПОД/ФТ,  ФЗ «О рекламе», НК РФ, ФЗ «О потребительском займе (кредите)</a:t>
              </a: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ругие федеральные зак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 Box 21"/>
          <p:cNvGrpSpPr/>
          <p:nvPr/>
        </p:nvGrpSpPr>
        <p:grpSpPr>
          <a:xfrm>
            <a:off x="2535120" y="5694480"/>
            <a:ext cx="5529240" cy="839520"/>
            <a:chOff x="2535120" y="5694480"/>
            <a:chExt cx="5529240" cy="839520"/>
          </a:xfrm>
        </p:grpSpPr>
        <p:pic>
          <p:nvPicPr>
            <p:cNvPr id="237" name="Text Box 21" descr=""/>
            <p:cNvPicPr/>
            <p:nvPr/>
          </p:nvPicPr>
          <p:blipFill>
            <a:blip r:embed="rId4"/>
            <a:stretch/>
          </p:blipFill>
          <p:spPr>
            <a:xfrm>
              <a:off x="2535120" y="5694480"/>
              <a:ext cx="55292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60760" y="5800680"/>
              <a:ext cx="5281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еятельность КП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9"/>
          <p:cNvSpPr/>
          <p:nvPr/>
        </p:nvSpPr>
        <p:spPr>
          <a:xfrm>
            <a:off x="3240000" y="5405400"/>
            <a:ext cx="0" cy="3952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8176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200" y="256680"/>
            <a:ext cx="6896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174261"/>
                </a:solidFill>
                <a:latin typeface="Trebuchet MS"/>
              </a:rPr>
              <a:t>Правовое регулирование деятельности КПК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6443640" y="3860640"/>
            <a:ext cx="2500200" cy="7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законные акты Минфин РФ, ЦБ РФ,  Ф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7380360" y="4583160"/>
            <a:ext cx="0" cy="1217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380360" y="3305160"/>
            <a:ext cx="0" cy="5554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4235400" y="4032360"/>
            <a:ext cx="1909800" cy="104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а и стандарты С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191200" y="3303720"/>
            <a:ext cx="0" cy="72864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91200" y="5073480"/>
            <a:ext cx="0" cy="72720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"/>
          <p:cNvCxnSpPr>
            <a:stCxn id="245" idx="1"/>
          </p:cNvCxnSpPr>
          <p:nvPr/>
        </p:nvCxnSpPr>
        <p:spPr>
          <a:xfrm flipH="1">
            <a:off x="3239280" y="4552560"/>
            <a:ext cx="996120" cy="548280"/>
          </a:xfrm>
          <a:prstGeom prst="straightConnector1">
            <a:avLst/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249" name="Text Box 11"/>
          <p:cNvSpPr/>
          <p:nvPr/>
        </p:nvSpPr>
        <p:spPr>
          <a:xfrm>
            <a:off x="1077840" y="4795920"/>
            <a:ext cx="2844720" cy="609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нутренние нормативные документы К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763560" y="3530520"/>
            <a:ext cx="2844720" cy="501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став КПК (ст.8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1764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620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от 23.07.13 № 251-ФЗ  «О передаче ЦБ РФ полномочий по регулированию, контролю и надзору в сфере финансовых рынков»</a:t>
            </a:r>
            <a:br>
              <a:rPr sz="1600"/>
            </a:b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Полилиния 3"/>
          <p:cNvSpPr/>
          <p:nvPr/>
        </p:nvSpPr>
        <p:spPr>
          <a:xfrm>
            <a:off x="2952720" y="1214280"/>
            <a:ext cx="6118200" cy="144000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17880" tIns="194040" bIns="19404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проект основных направлений развития финансового рынка и обеспечивает выполнение основных направлений развития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и проводит политику развития и обеспечения стабильности функционирования российского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Полномочие по принятию нормативных правовых актов по вопросам своего ведения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>
            <a:off x="477720" y="1217520"/>
            <a:ext cx="2354400" cy="143676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определения единой политики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>
            <a:off x="2952720" y="2749680"/>
            <a:ext cx="6118200" cy="11476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отраслевые стандарты бухгалтерского учета для некредитных финансовых организаций с 1.0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план счетов бухгалтерского учета для некредитных финансовых организаций и порядок его применени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10"/>
          <p:cNvSpPr/>
          <p:nvPr/>
        </p:nvSpPr>
        <p:spPr>
          <a:xfrm>
            <a:off x="474840" y="2749680"/>
            <a:ext cx="2338200" cy="11476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бухгалтерского учет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11"/>
          <p:cNvSpPr/>
          <p:nvPr/>
        </p:nvSpPr>
        <p:spPr>
          <a:xfrm>
            <a:off x="2952720" y="3987720"/>
            <a:ext cx="6118200" cy="11494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Trebuchet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одит анализ и прогнозирование состояния российской экономики, публикует соответствующие материалы и статистически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12"/>
          <p:cNvSpPr/>
          <p:nvPr/>
        </p:nvSpPr>
        <p:spPr>
          <a:xfrm>
            <a:off x="474840" y="3987720"/>
            <a:ext cx="2338200" cy="11494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мониторинга отдельных показателей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13"/>
          <p:cNvSpPr/>
          <p:nvPr/>
        </p:nvSpPr>
        <p:spPr>
          <a:xfrm>
            <a:off x="2952720" y="5211720"/>
            <a:ext cx="6118200" cy="143532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27600" tIns="203760" bIns="20376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уществляет регулирование, контроль и надзор за деятельностью некредитных финансов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станавливает нормативы их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водит проверки их деятельности, направляет им обязательные для исполнения предписания, а также применяет к указанным организациям иные предусмотренные законодательством 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Полилиния 14"/>
          <p:cNvGrpSpPr/>
          <p:nvPr/>
        </p:nvGrpSpPr>
        <p:grpSpPr>
          <a:xfrm>
            <a:off x="407880" y="5181480"/>
            <a:ext cx="2463840" cy="1567080"/>
            <a:chOff x="407880" y="5181480"/>
            <a:chExt cx="2463840" cy="1567080"/>
          </a:xfrm>
        </p:grpSpPr>
        <p:pic>
          <p:nvPicPr>
            <p:cNvPr id="261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407880" y="5181480"/>
              <a:ext cx="2463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5211720"/>
              <a:ext cx="23288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600" rIns="138600" tIns="104400" bIns="104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Полномочия в области регулирования деятельности отдельных участников финансового 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ая соединительная линия 16"/>
          <p:cNvSpPr/>
          <p:nvPr/>
        </p:nvSpPr>
        <p:spPr>
          <a:xfrm>
            <a:off x="2906640" y="1116000"/>
            <a:ext cx="62373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Скругленный прямоугольник 50"/>
          <p:cNvGrpSpPr/>
          <p:nvPr/>
        </p:nvGrpSpPr>
        <p:grpSpPr>
          <a:xfrm>
            <a:off x="5553000" y="871560"/>
            <a:ext cx="3110040" cy="755640"/>
            <a:chOff x="5553000" y="871560"/>
            <a:chExt cx="3110040" cy="755640"/>
          </a:xfrm>
        </p:grpSpPr>
        <p:pic>
          <p:nvPicPr>
            <p:cNvPr id="265" name="Скругленный прямоугольник 50" descr=""/>
            <p:cNvPicPr/>
            <p:nvPr/>
          </p:nvPicPr>
          <p:blipFill>
            <a:blip r:embed="rId1"/>
            <a:stretch/>
          </p:blipFill>
          <p:spPr>
            <a:xfrm>
              <a:off x="5553000" y="871560"/>
              <a:ext cx="311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00600" y="1004760"/>
              <a:ext cx="2813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Министерство юст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51"/>
          <p:cNvGrpSpPr/>
          <p:nvPr/>
        </p:nvGrpSpPr>
        <p:grpSpPr>
          <a:xfrm>
            <a:off x="-92160" y="414360"/>
            <a:ext cx="2298960" cy="658800"/>
            <a:chOff x="-92160" y="414360"/>
            <a:chExt cx="2298960" cy="658800"/>
          </a:xfrm>
        </p:grpSpPr>
        <p:pic>
          <p:nvPicPr>
            <p:cNvPr id="268" name="Скругленный прямоугольник 51" descr=""/>
            <p:cNvPicPr/>
            <p:nvPr/>
          </p:nvPicPr>
          <p:blipFill>
            <a:blip r:embed="rId2"/>
            <a:stretch/>
          </p:blipFill>
          <p:spPr>
            <a:xfrm>
              <a:off x="-92160" y="414360"/>
              <a:ext cx="2298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320" y="547560"/>
              <a:ext cx="2014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СУ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52"/>
          <p:cNvGrpSpPr/>
          <p:nvPr/>
        </p:nvGrpSpPr>
        <p:grpSpPr>
          <a:xfrm>
            <a:off x="7034040" y="5310360"/>
            <a:ext cx="1805040" cy="1071360"/>
            <a:chOff x="7034040" y="5310360"/>
            <a:chExt cx="1805040" cy="1071360"/>
          </a:xfrm>
        </p:grpSpPr>
        <p:pic>
          <p:nvPicPr>
            <p:cNvPr id="271" name="Скругленный прямоугольник 52" descr=""/>
            <p:cNvPicPr/>
            <p:nvPr/>
          </p:nvPicPr>
          <p:blipFill>
            <a:blip r:embed="rId3"/>
            <a:stretch/>
          </p:blipFill>
          <p:spPr>
            <a:xfrm>
              <a:off x="7034040" y="5310360"/>
              <a:ext cx="18050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07120" y="5381640"/>
              <a:ext cx="133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l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Скругленный прямоугольник 57"/>
          <p:cNvGrpSpPr/>
          <p:nvPr/>
        </p:nvGrpSpPr>
        <p:grpSpPr>
          <a:xfrm>
            <a:off x="5522760" y="4552920"/>
            <a:ext cx="1805040" cy="1073160"/>
            <a:chOff x="5522760" y="4552920"/>
            <a:chExt cx="1805040" cy="1073160"/>
          </a:xfrm>
        </p:grpSpPr>
        <p:pic>
          <p:nvPicPr>
            <p:cNvPr id="274" name="Скругленный прямоугольник 57" descr=""/>
            <p:cNvPicPr/>
            <p:nvPr/>
          </p:nvPicPr>
          <p:blipFill>
            <a:blip r:embed="rId4"/>
            <a:stretch/>
          </p:blipFill>
          <p:spPr>
            <a:xfrm>
              <a:off x="5522760" y="4552920"/>
              <a:ext cx="180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595840" y="4627440"/>
              <a:ext cx="1332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g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Прямая со стрелкой 74"/>
          <p:cNvCxnSpPr/>
          <p:nvPr/>
        </p:nvCxnSpPr>
        <p:spPr>
          <a:xfrm flipV="1">
            <a:off x="6261120" y="3555360"/>
            <a:ext cx="216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7" name="Скругленный прямоугольник 81"/>
          <p:cNvSpPr/>
          <p:nvPr/>
        </p:nvSpPr>
        <p:spPr>
          <a:xfrm>
            <a:off x="5786280" y="2292480"/>
            <a:ext cx="2751120" cy="132372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00b0f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77"/>
          <p:cNvCxnSpPr/>
          <p:nvPr/>
        </p:nvCxnSpPr>
        <p:spPr>
          <a:xfrm flipV="1">
            <a:off x="7772400" y="3558960"/>
            <a:ext cx="216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9" name="Скругленный прямоугольник 86"/>
          <p:cNvSpPr/>
          <p:nvPr/>
        </p:nvSpPr>
        <p:spPr>
          <a:xfrm>
            <a:off x="6102360" y="378612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Обязательное членств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включение в реестр С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88"/>
          <p:cNvGrpSpPr/>
          <p:nvPr/>
        </p:nvGrpSpPr>
        <p:grpSpPr>
          <a:xfrm>
            <a:off x="3822840" y="6388200"/>
            <a:ext cx="4956120" cy="592200"/>
            <a:chOff x="3822840" y="6388200"/>
            <a:chExt cx="4956120" cy="592200"/>
          </a:xfrm>
        </p:grpSpPr>
        <p:pic>
          <p:nvPicPr>
            <p:cNvPr id="281" name="Скругленный прямоугольник 88" descr=""/>
            <p:cNvPicPr/>
            <p:nvPr/>
          </p:nvPicPr>
          <p:blipFill>
            <a:blip r:embed="rId5"/>
            <a:stretch/>
          </p:blipFill>
          <p:spPr>
            <a:xfrm>
              <a:off x="3822840" y="6388200"/>
              <a:ext cx="4956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60720" y="6515280"/>
              <a:ext cx="467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Федеральная налогов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93"/>
          <p:cNvCxnSpPr/>
          <p:nvPr/>
        </p:nvCxnSpPr>
        <p:spPr>
          <a:xfrm flipH="1">
            <a:off x="4720680" y="4500360"/>
            <a:ext cx="1080" cy="199908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4" name="Прямая со стрелкой 94"/>
          <p:cNvCxnSpPr/>
          <p:nvPr/>
        </p:nvCxnSpPr>
        <p:spPr>
          <a:xfrm flipH="1">
            <a:off x="6260760" y="5262480"/>
            <a:ext cx="2160" cy="12391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grpSp>
        <p:nvGrpSpPr>
          <p:cNvPr id="285" name="Скругленный прямоугольник 97"/>
          <p:cNvGrpSpPr/>
          <p:nvPr/>
        </p:nvGrpSpPr>
        <p:grpSpPr>
          <a:xfrm>
            <a:off x="3906720" y="3797280"/>
            <a:ext cx="1798920" cy="1073160"/>
            <a:chOff x="3906720" y="3797280"/>
            <a:chExt cx="1798920" cy="1073160"/>
          </a:xfrm>
        </p:grpSpPr>
        <p:pic>
          <p:nvPicPr>
            <p:cNvPr id="286" name="Скругленный прямоугольник 97" descr=""/>
            <p:cNvPicPr/>
            <p:nvPr/>
          </p:nvPicPr>
          <p:blipFill>
            <a:blip r:embed="rId6"/>
            <a:stretch/>
          </p:blipFill>
          <p:spPr>
            <a:xfrm>
              <a:off x="3906720" y="3797280"/>
              <a:ext cx="17989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79800" y="3873600"/>
              <a:ext cx="1330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второго уров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Прямая со стрелкой 102"/>
          <p:cNvCxnSpPr/>
          <p:nvPr/>
        </p:nvCxnSpPr>
        <p:spPr>
          <a:xfrm>
            <a:off x="7772400" y="6014520"/>
            <a:ext cx="7200" cy="4993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9" name="Скругленный прямоугольник 104"/>
          <p:cNvSpPr/>
          <p:nvPr/>
        </p:nvSpPr>
        <p:spPr>
          <a:xfrm>
            <a:off x="4422600" y="6154560"/>
            <a:ext cx="382140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 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117"/>
          <p:cNvCxnSpPr/>
          <p:nvPr/>
        </p:nvCxnSpPr>
        <p:spPr>
          <a:xfrm>
            <a:off x="2012760" y="4175280"/>
            <a:ext cx="193572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118"/>
          <p:cNvCxnSpPr/>
          <p:nvPr/>
        </p:nvCxnSpPr>
        <p:spPr>
          <a:xfrm>
            <a:off x="2018880" y="4928760"/>
            <a:ext cx="3545640" cy="252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Прямая со стрелкой 123"/>
          <p:cNvCxnSpPr/>
          <p:nvPr/>
        </p:nvCxnSpPr>
        <p:spPr>
          <a:xfrm>
            <a:off x="2088720" y="3424320"/>
            <a:ext cx="364428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3" name="Скругленный прямоугольник 129"/>
          <p:cNvSpPr/>
          <p:nvPr/>
        </p:nvSpPr>
        <p:spPr>
          <a:xfrm>
            <a:off x="2513160" y="3289320"/>
            <a:ext cx="293364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исполнением СРО и их членами положений ФЗ и иных норм. а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30"/>
          <p:cNvSpPr/>
          <p:nvPr/>
        </p:nvSpPr>
        <p:spPr>
          <a:xfrm>
            <a:off x="2513160" y="3957480"/>
            <a:ext cx="1226880" cy="117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131"/>
          <p:cNvCxnSpPr/>
          <p:nvPr/>
        </p:nvCxnSpPr>
        <p:spPr>
          <a:xfrm>
            <a:off x="1906560" y="5683320"/>
            <a:ext cx="5169600" cy="2160"/>
          </a:xfrm>
          <a:prstGeom prst="straightConnector1">
            <a:avLst/>
          </a:prstGeom>
          <a:ln cap="rnd" w="19080">
            <a:solidFill>
              <a:srgbClr val="ff0000"/>
            </a:solidFill>
            <a:custDash>
              <a:ds d="499000" sp="201000"/>
            </a:custDash>
            <a:miter/>
            <a:tailEnd len="med" type="arrow" w="med"/>
          </a:ln>
        </p:spPr>
      </p:cxnSp>
      <p:sp>
        <p:nvSpPr>
          <p:cNvPr id="296" name="Скругленный прямоугольник 135"/>
          <p:cNvSpPr/>
          <p:nvPr/>
        </p:nvSpPr>
        <p:spPr>
          <a:xfrm>
            <a:off x="2513160" y="5403960"/>
            <a:ext cx="17859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, в случае отсутствия членства в СРО К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140"/>
          <p:cNvCxnSpPr/>
          <p:nvPr/>
        </p:nvCxnSpPr>
        <p:spPr>
          <a:xfrm flipV="1">
            <a:off x="6555240" y="3555360"/>
            <a:ext cx="252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cxnSp>
        <p:nvCxnSpPr>
          <p:cNvPr id="298" name="Прямая со стрелкой 141"/>
          <p:cNvCxnSpPr/>
          <p:nvPr/>
        </p:nvCxnSpPr>
        <p:spPr>
          <a:xfrm flipV="1">
            <a:off x="7988760" y="3558960"/>
            <a:ext cx="252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sp>
        <p:nvSpPr>
          <p:cNvPr id="299" name="Скругленный прямоугольник 147"/>
          <p:cNvSpPr/>
          <p:nvPr/>
        </p:nvSpPr>
        <p:spPr>
          <a:xfrm>
            <a:off x="5564160" y="4094280"/>
            <a:ext cx="291960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Мониторинг, контроль, обеспечение имущественной ответств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153"/>
          <p:cNvCxnSpPr>
            <a:endCxn id="301" idx="0"/>
          </p:cNvCxnSpPr>
          <p:nvPr/>
        </p:nvCxnSpPr>
        <p:spPr>
          <a:xfrm>
            <a:off x="2082600" y="732960"/>
            <a:ext cx="1999080" cy="97092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02" name="Скругленный прямоугольник 150"/>
          <p:cNvSpPr/>
          <p:nvPr/>
        </p:nvSpPr>
        <p:spPr>
          <a:xfrm>
            <a:off x="2784600" y="1125360"/>
            <a:ext cx="2593800" cy="36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 ликвидации кредитных потребительских кооператив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57"/>
          <p:cNvCxnSpPr/>
          <p:nvPr/>
        </p:nvCxnSpPr>
        <p:spPr>
          <a:xfrm>
            <a:off x="2088720" y="2976120"/>
            <a:ext cx="3644280" cy="2520"/>
          </a:xfrm>
          <a:prstGeom prst="straightConnector1">
            <a:avLst/>
          </a:prstGeom>
          <a:ln cap="rnd" w="316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Скругленный прямоугольник 158"/>
          <p:cNvSpPr/>
          <p:nvPr/>
        </p:nvSpPr>
        <p:spPr>
          <a:xfrm>
            <a:off x="2840040" y="285264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Скругленный прямоугольник 43"/>
          <p:cNvGrpSpPr/>
          <p:nvPr/>
        </p:nvGrpSpPr>
        <p:grpSpPr>
          <a:xfrm>
            <a:off x="1054080" y="2279520"/>
            <a:ext cx="1139760" cy="4303800"/>
            <a:chOff x="1054080" y="2279520"/>
            <a:chExt cx="1139760" cy="4303800"/>
          </a:xfrm>
        </p:grpSpPr>
        <p:pic>
          <p:nvPicPr>
            <p:cNvPr id="306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1054080" y="2279520"/>
              <a:ext cx="11397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200000">
              <a:off x="-375120" y="4024800"/>
              <a:ext cx="3973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Банк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2"/>
          <p:cNvGrpSpPr/>
          <p:nvPr/>
        </p:nvGrpSpPr>
        <p:grpSpPr>
          <a:xfrm>
            <a:off x="5608800" y="2127240"/>
            <a:ext cx="2998800" cy="1566720"/>
            <a:chOff x="5608800" y="2127240"/>
            <a:chExt cx="2998800" cy="156672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8"/>
            <a:stretch/>
          </p:blipFill>
          <p:spPr>
            <a:xfrm>
              <a:off x="5608800" y="2127240"/>
              <a:ext cx="29988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97440" y="2301840"/>
              <a:ext cx="2621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РО 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</a:rPr>
                <a:t>Не менее 100 КПК или 5 КПК с численностью членов более 100 тыс. пайщ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Shape 153"/>
          <p:cNvCxnSpPr/>
          <p:nvPr/>
        </p:nvCxnSpPr>
        <p:spPr>
          <a:xfrm rot="10800000">
            <a:off x="1054800" y="940680"/>
            <a:ext cx="97560" cy="183744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12" name="Скругленный прямоугольник 138"/>
          <p:cNvSpPr/>
          <p:nvPr/>
        </p:nvSpPr>
        <p:spPr>
          <a:xfrm>
            <a:off x="36360" y="1125360"/>
            <a:ext cx="23940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 ликвидации КПК, по  основаниям, предусмотренным положениями №190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49"/>
          <p:cNvSpPr/>
          <p:nvPr/>
        </p:nvSpPr>
        <p:spPr>
          <a:xfrm>
            <a:off x="36360" y="1773360"/>
            <a:ext cx="2394000" cy="46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б исключении СРО КПК из государственного реестра СРО К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59"/>
          <p:cNvSpPr/>
          <p:nvPr/>
        </p:nvSpPr>
        <p:spPr>
          <a:xfrm>
            <a:off x="2784600" y="1703520"/>
            <a:ext cx="2593800" cy="51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б исключении СРО КПК из государственного реестра СРО КП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1258920" y="249228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СРО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1"/>
          <p:cNvSpPr/>
          <p:nvPr/>
        </p:nvSpPr>
        <p:spPr>
          <a:xfrm>
            <a:off x="1258920" y="595152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Соединительная линия уступом 107"/>
          <p:cNvCxnSpPr>
            <a:endCxn id="315" idx="2"/>
          </p:cNvCxnSpPr>
          <p:nvPr/>
        </p:nvCxnSpPr>
        <p:spPr>
          <a:xfrm rot="10800000">
            <a:off x="1581840" y="6357240"/>
            <a:ext cx="2363040" cy="303840"/>
          </a:xfrm>
          <a:prstGeom prst="bentConnector2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17" name="Скругленный прямоугольник 110"/>
          <p:cNvSpPr/>
          <p:nvPr/>
        </p:nvSpPr>
        <p:spPr>
          <a:xfrm>
            <a:off x="2266920" y="6496200"/>
            <a:ext cx="144612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редоставление сведений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из ЕГРЮ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3"/>
          <p:cNvCxnSpPr>
            <a:endCxn id="314" idx="3"/>
          </p:cNvCxnSpPr>
          <p:nvPr/>
        </p:nvCxnSpPr>
        <p:spPr>
          <a:xfrm flipH="1">
            <a:off x="1906200" y="2695320"/>
            <a:ext cx="3826800" cy="1080"/>
          </a:xfrm>
          <a:prstGeom prst="straightConnector1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19" name="Прямая со стрелкой 62"/>
          <p:cNvCxnSpPr/>
          <p:nvPr/>
        </p:nvCxnSpPr>
        <p:spPr>
          <a:xfrm flipH="1" flipV="1">
            <a:off x="6443280" y="145368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0" name="Прямая со стрелкой 82"/>
          <p:cNvCxnSpPr/>
          <p:nvPr/>
        </p:nvCxnSpPr>
        <p:spPr>
          <a:xfrm flipH="1">
            <a:off x="7778520" y="145404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21" name="Скругленный прямоугольник 83"/>
          <p:cNvSpPr/>
          <p:nvPr/>
        </p:nvSpPr>
        <p:spPr>
          <a:xfrm>
            <a:off x="7161120" y="1557360"/>
            <a:ext cx="1263600" cy="42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4"/>
          <p:cNvSpPr/>
          <p:nvPr/>
        </p:nvSpPr>
        <p:spPr>
          <a:xfrm>
            <a:off x="5813280" y="1671480"/>
            <a:ext cx="12621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регистрация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84"/>
          <p:cNvSpPr/>
          <p:nvPr/>
        </p:nvSpPr>
        <p:spPr>
          <a:xfrm>
            <a:off x="2840040" y="2600280"/>
            <a:ext cx="2224080" cy="1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ключение в реес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76200" y="3492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rebuchet MS"/>
              </a:rPr>
              <a:t>Система регулирования и контроля  кредитной ко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2760" y="2203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rebuchet MS"/>
              </a:rPr>
              <a:t>Система стандартов и норм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Скругленный прямоугольник 2"/>
          <p:cNvSpPr/>
          <p:nvPr/>
        </p:nvSpPr>
        <p:spPr>
          <a:xfrm>
            <a:off x="777960" y="1281240"/>
            <a:ext cx="2619360" cy="1047600"/>
          </a:xfrm>
          <a:prstGeom prst="roundRect">
            <a:avLst>
              <a:gd name="adj" fmla="val 14606"/>
            </a:avLst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№190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«О кредитн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"/>
          <p:cNvSpPr/>
          <p:nvPr/>
        </p:nvSpPr>
        <p:spPr>
          <a:xfrm>
            <a:off x="3611520" y="2449440"/>
            <a:ext cx="2619360" cy="73512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н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6292800" y="3548160"/>
            <a:ext cx="2619360" cy="73476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3"/>
          <p:cNvCxnSpPr>
            <a:stCxn id="326" idx="3"/>
            <a:endCxn id="327" idx="0"/>
          </p:cNvCxnSpPr>
          <p:nvPr/>
        </p:nvCxnSpPr>
        <p:spPr>
          <a:xfrm>
            <a:off x="3396960" y="1805040"/>
            <a:ext cx="1524600" cy="64512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0" name="Shape 35"/>
          <p:cNvCxnSpPr>
            <a:stCxn id="327" idx="3"/>
          </p:cNvCxnSpPr>
          <p:nvPr/>
        </p:nvCxnSpPr>
        <p:spPr>
          <a:xfrm>
            <a:off x="6230520" y="2817360"/>
            <a:ext cx="694440" cy="73116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1" name="Shape 41"/>
          <p:cNvCxnSpPr>
            <a:stCxn id="326" idx="3"/>
          </p:cNvCxnSpPr>
          <p:nvPr/>
        </p:nvCxnSpPr>
        <p:spPr>
          <a:xfrm>
            <a:off x="3396960" y="1805040"/>
            <a:ext cx="4974120" cy="174384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2" name="Скругленный прямоугольник 8"/>
          <p:cNvGrpSpPr/>
          <p:nvPr/>
        </p:nvGrpSpPr>
        <p:grpSpPr>
          <a:xfrm>
            <a:off x="712800" y="5742000"/>
            <a:ext cx="8265960" cy="714240"/>
            <a:chOff x="712800" y="5742000"/>
            <a:chExt cx="8265960" cy="714240"/>
          </a:xfrm>
        </p:grpSpPr>
        <p:pic>
          <p:nvPicPr>
            <p:cNvPr id="333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712800" y="5742000"/>
              <a:ext cx="826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03160" y="5799240"/>
              <a:ext cx="8083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Кредитные потребительские кооперати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9"/>
          <p:cNvCxnSpPr>
            <a:stCxn id="326" idx="2"/>
          </p:cNvCxnSpPr>
          <p:nvPr/>
        </p:nvCxnSpPr>
        <p:spPr>
          <a:xfrm flipH="1">
            <a:off x="2085120" y="2328840"/>
            <a:ext cx="2520" cy="343296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6" name="Прямая со стрелкой 10"/>
          <p:cNvCxnSpPr>
            <a:stCxn id="327" idx="2"/>
          </p:cNvCxnSpPr>
          <p:nvPr/>
        </p:nvCxnSpPr>
        <p:spPr>
          <a:xfrm>
            <a:off x="4921200" y="3184200"/>
            <a:ext cx="7200" cy="260100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7" name="Прямая со стрелкой 11"/>
          <p:cNvCxnSpPr>
            <a:stCxn id="328" idx="2"/>
          </p:cNvCxnSpPr>
          <p:nvPr/>
        </p:nvCxnSpPr>
        <p:spPr>
          <a:xfrm>
            <a:off x="7602120" y="4282920"/>
            <a:ext cx="27720" cy="147888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8" name="Скругленный прямоугольник 12"/>
          <p:cNvGrpSpPr/>
          <p:nvPr/>
        </p:nvGrpSpPr>
        <p:grpSpPr>
          <a:xfrm>
            <a:off x="3986280" y="4608360"/>
            <a:ext cx="1884240" cy="871560"/>
            <a:chOff x="3986280" y="4608360"/>
            <a:chExt cx="1884240" cy="871560"/>
          </a:xfrm>
        </p:grpSpPr>
        <p:pic>
          <p:nvPicPr>
            <p:cNvPr id="339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986280" y="4608360"/>
              <a:ext cx="188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083120" y="4670280"/>
              <a:ext cx="1690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Скругленный прямоугольник 13"/>
          <p:cNvSpPr/>
          <p:nvPr/>
        </p:nvSpPr>
        <p:spPr>
          <a:xfrm>
            <a:off x="6931080" y="4638600"/>
            <a:ext cx="1387440" cy="735120"/>
          </a:xfrm>
          <a:prstGeom prst="roundRect">
            <a:avLst>
              <a:gd name="adj" fmla="val 14606"/>
            </a:avLst>
          </a:prstGeom>
          <a:solidFill>
            <a:srgbClr val="ffffcc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авил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4"/>
          <p:cNvSpPr/>
          <p:nvPr/>
        </p:nvSpPr>
        <p:spPr>
          <a:xfrm>
            <a:off x="405144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полнительные финансовые 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5"/>
          <p:cNvSpPr/>
          <p:nvPr/>
        </p:nvSpPr>
        <p:spPr>
          <a:xfrm>
            <a:off x="1393920" y="2451240"/>
            <a:ext cx="1387440" cy="734760"/>
          </a:xfrm>
          <a:prstGeom prst="roundRect">
            <a:avLst>
              <a:gd name="adj" fmla="val 14606"/>
            </a:avLst>
          </a:prstGeom>
          <a:solidFill>
            <a:srgbClr val="eaf6d9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Скругленный прямоугольник 16"/>
          <p:cNvGrpSpPr/>
          <p:nvPr/>
        </p:nvGrpSpPr>
        <p:grpSpPr>
          <a:xfrm>
            <a:off x="6492960" y="2236680"/>
            <a:ext cx="1517400" cy="866880"/>
            <a:chOff x="6492960" y="2236680"/>
            <a:chExt cx="1517400" cy="866880"/>
          </a:xfrm>
        </p:grpSpPr>
        <p:pic>
          <p:nvPicPr>
            <p:cNvPr id="345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6492960" y="2236680"/>
              <a:ext cx="1517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89800" y="2297160"/>
              <a:ext cx="1323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7"/>
          <p:cNvSpPr/>
          <p:nvPr/>
        </p:nvSpPr>
        <p:spPr>
          <a:xfrm>
            <a:off x="121140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200" y="40464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 создаются кредитные кооперативы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49" name="Содержимое 6" descr=""/>
          <p:cNvPicPr/>
          <p:nvPr/>
        </p:nvPicPr>
        <p:blipFill>
          <a:blip r:embed="rId1"/>
          <a:stretch/>
        </p:blipFill>
        <p:spPr>
          <a:xfrm>
            <a:off x="676440" y="1481040"/>
            <a:ext cx="658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9264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ahoma"/>
                <a:ea typeface="Tahoma"/>
              </a:rPr>
              <a:t>Основные принципы деятельности кредитных потребительских кооперативов</a:t>
            </a:r>
            <a:br>
              <a:rPr sz="29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51" name="Содержимое 6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0107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539280"/>
            <a:ext cx="78627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ие финансовые операции может осуществлять кредитный кооператив</a:t>
            </a:r>
            <a:br>
              <a:rPr sz="27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85560" y="2214720"/>
            <a:ext cx="749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оказывать финансовую помощь пайщикам КП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в виде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инимать личные сбережения членов-пайщиков с дальнейшим начислением компенс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8840" y="37162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36520" y="1643040"/>
            <a:ext cx="14493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24:33Z</dcterms:created>
  <dc:creator>Дмитрий</dc:creator>
  <dc:description/>
  <dc:language>en-US</dc:language>
  <cp:lastModifiedBy>Сергей Хмельков</cp:lastModifiedBy>
  <dcterms:modified xsi:type="dcterms:W3CDTF">2015-09-28T19:47:34Z</dcterms:modified>
  <cp:revision>87</cp:revision>
  <dc:subject/>
  <dc:title>Кредитные союзы</dc:title>
</cp:coreProperties>
</file>